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218-FE2A-4296-8CF8-08906A4A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836-00D8-4684-A4E5-524FB335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82D-258F-4D74-B16C-4C9410E3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C5E-03FC-48F2-91E7-19BD016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F247-B90A-4C22-B587-7C08CC9A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A2D4-9BCB-4908-851F-A726656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8901-D46E-43FF-9FB8-4C15AC0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904-F096-409B-AA9E-8586EF68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66DC-D072-42D6-89B1-85B7533F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1DAA-E907-45D4-9BDA-236E0168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B36-D35F-45D0-BEE6-2EE6E17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5EF-49BC-4974-A216-BFD5CFA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D2B6-CC13-4654-B9CF-4EF973A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4CD-B0C5-49BD-816F-D3275B2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C0F1-6704-44A3-8219-0D1B3460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96B6-948E-43DF-86ED-5C3FBBE2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675-B17D-4976-9358-8711DC7F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4C7-A826-49A0-91E7-B1BDD31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616-49C2-45B0-99D8-F48A6907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458-F81C-47B6-8618-91915123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DB1-1430-4949-A1D1-CAF2626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74E-A319-41D0-B493-55569BD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92B-2F95-4711-8270-FEE65DB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1F5-67AD-4D0B-891F-EDCDCE6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480"/>
                  <a:ext cx="29628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2760"/>
                  <a:ext cx="1065600" cy="1141200"/>
                  <a:chOff x="7833600" y="842760"/>
                  <a:chExt cx="1065600" cy="114120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59800" y="1133640"/>
                    <a:ext cx="88740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920" y="160092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4840"/>
                    <a:ext cx="89028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520"/>
                  <a:ext cx="1303560" cy="669600"/>
                  <a:chOff x="7837200" y="69552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960" y="824040"/>
                    <a:ext cx="860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520" y="709920"/>
                    <a:ext cx="79200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840" y="651240"/>
                    <a:ext cx="72072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28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2840" cy="668520"/>
                  <a:chOff x="6273360" y="787320"/>
                  <a:chExt cx="1302840" cy="66852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760" y="915840"/>
                    <a:ext cx="86004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2880" y="112284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1280" y="74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520" cy="327240"/>
                  <a:chOff x="6585480" y="509760"/>
                  <a:chExt cx="983520" cy="32724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44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48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960"/>
                  <a:ext cx="967320" cy="451440"/>
                  <a:chOff x="6638400" y="390960"/>
                  <a:chExt cx="967320" cy="45144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3920" y="62028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400"/>
                    <a:ext cx="3391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400"/>
                  <a:ext cx="901440" cy="628560"/>
                  <a:chOff x="6752520" y="221400"/>
                  <a:chExt cx="901440" cy="62856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2680" y="574200"/>
                    <a:ext cx="63468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520" y="302040"/>
                    <a:ext cx="34164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480"/>
                  <a:ext cx="608040" cy="785160"/>
                  <a:chOff x="7112160" y="15480"/>
                  <a:chExt cx="608040" cy="78516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38520" y="474840"/>
                    <a:ext cx="56700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320"/>
                    <a:ext cx="3042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960"/>
                  <a:ext cx="466200" cy="810000"/>
                  <a:chOff x="7287480" y="-21960"/>
                  <a:chExt cx="466200" cy="81000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0320" y="457920"/>
                    <a:ext cx="5454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4520" y="59760"/>
                    <a:ext cx="2955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040"/>
                    <a:ext cx="632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05560" y="47628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2240"/>
                  <a:ext cx="496800" cy="792720"/>
                  <a:chOff x="7666200" y="-12240"/>
                  <a:chExt cx="496800" cy="7927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6040" y="467280"/>
                    <a:ext cx="54144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5440" y="77040"/>
                    <a:ext cx="29268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7440"/>
                  <a:ext cx="785880" cy="748080"/>
                  <a:chOff x="7662600" y="37440"/>
                  <a:chExt cx="785880" cy="74808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1200" y="453600"/>
                    <a:ext cx="592200" cy="13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0360" y="118080"/>
                    <a:ext cx="317880" cy="21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120" cy="745200"/>
                  <a:chOff x="7708680" y="-720"/>
                  <a:chExt cx="177120" cy="74520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2200" y="477720"/>
                    <a:ext cx="48708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920" y="98640"/>
                    <a:ext cx="26064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040" y="930240"/>
                  <a:ext cx="915480" cy="1248840"/>
                  <a:chOff x="6710040" y="930240"/>
                  <a:chExt cx="915480" cy="124884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548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2200" y="1786680"/>
                    <a:ext cx="4762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89760" y="1309680"/>
                    <a:ext cx="822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0800"/>
                  <a:ext cx="364320" cy="1218600"/>
                  <a:chOff x="7312320" y="1000800"/>
                  <a:chExt cx="364320" cy="121860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4120" y="1328040"/>
                    <a:ext cx="787680" cy="146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4000" y="1875600"/>
                    <a:ext cx="421920" cy="228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5600" y="1746000"/>
                    <a:ext cx="475560" cy="25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800"/>
                  <a:ext cx="731880" cy="1263240"/>
                  <a:chOff x="7787160" y="955800"/>
                  <a:chExt cx="731880" cy="126324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8400" y="1289160"/>
                    <a:ext cx="84636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120" y="1839960"/>
                    <a:ext cx="45432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120" cy="1131480"/>
                  <a:chOff x="7500600" y="1077840"/>
                  <a:chExt cx="276120" cy="113148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024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6920" y="1927440"/>
                    <a:ext cx="39852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43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36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112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760" y="159480"/>
                <a:ext cx="94752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2836-9594-4D61-876B-EA6A9B426520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52720"/>
            <a:ext cx="6895800" cy="5443920"/>
            <a:chOff x="2011320" y="252720"/>
            <a:chExt cx="6895800" cy="54439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960"/>
              <a:ext cx="945720" cy="709920"/>
              <a:chOff x="3484080" y="9579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9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7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52720"/>
              <a:ext cx="6895800" cy="5443920"/>
              <a:chOff x="2011320" y="252720"/>
              <a:chExt cx="6895800" cy="54439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52720"/>
                <a:ext cx="6891120" cy="5443920"/>
                <a:chOff x="2011320" y="252720"/>
                <a:chExt cx="6891120" cy="54439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72240"/>
                  <a:ext cx="3599280" cy="2651400"/>
                  <a:chOff x="3735720" y="127224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7224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43520"/>
                    <a:ext cx="71244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52720"/>
                  <a:ext cx="6891120" cy="5443920"/>
                  <a:chOff x="2011320" y="252720"/>
                  <a:chExt cx="6891120" cy="54439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32800"/>
                    <a:ext cx="2552760" cy="2733120"/>
                    <a:chOff x="5759640" y="2332800"/>
                    <a:chExt cx="2552760" cy="273312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1080" y="3031200"/>
                      <a:ext cx="21279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25120" y="4146840"/>
                      <a:ext cx="114156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57840"/>
                    <a:ext cx="3040920" cy="2529000"/>
                    <a:chOff x="5787000" y="2157840"/>
                    <a:chExt cx="3040920" cy="252900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080" y="2760840"/>
                      <a:ext cx="2235600" cy="42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2000" y="3729240"/>
                      <a:ext cx="120096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73600"/>
                    <a:ext cx="3097800" cy="1991880"/>
                    <a:chOff x="5774760" y="2073600"/>
                    <a:chExt cx="3097800" cy="199188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6320" y="25293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880" y="3254400"/>
                      <a:ext cx="114912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7480"/>
                    <a:ext cx="3134880" cy="1612440"/>
                    <a:chOff x="5767560" y="1977480"/>
                    <a:chExt cx="3134880" cy="161244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0880" y="228672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040" y="278244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88920"/>
                    <a:ext cx="2939040" cy="1000800"/>
                    <a:chOff x="5805720" y="1888920"/>
                    <a:chExt cx="2939040" cy="100080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1492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5640" y="2221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23400"/>
                    <a:ext cx="2658600" cy="447480"/>
                    <a:chOff x="5851440" y="1823400"/>
                    <a:chExt cx="2658600" cy="44748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60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3492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10400"/>
                    <a:ext cx="2364120" cy="790200"/>
                    <a:chOff x="5788440" y="1310400"/>
                    <a:chExt cx="2364120" cy="79020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62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896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85440"/>
                    <a:ext cx="2556360" cy="2729160"/>
                    <a:chOff x="2646360" y="2485440"/>
                    <a:chExt cx="2556360" cy="272916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2960" y="318276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1360" y="429444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75280"/>
                    <a:ext cx="3039120" cy="2531160"/>
                    <a:chOff x="2084760" y="2375280"/>
                    <a:chExt cx="3039120" cy="253116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8560" y="297792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8280" y="3949920"/>
                      <a:ext cx="119988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91040"/>
                    <a:ext cx="3097080" cy="1995120"/>
                    <a:chOff x="2040480" y="2291040"/>
                    <a:chExt cx="3097080" cy="199512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468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0680" y="34736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8520"/>
                    <a:ext cx="3133440" cy="1607400"/>
                    <a:chOff x="2011320" y="2198520"/>
                    <a:chExt cx="3133440" cy="160740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3960" y="250776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4400" y="2999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105280"/>
                    <a:ext cx="2937240" cy="1000440"/>
                    <a:chOff x="2167560" y="2105280"/>
                    <a:chExt cx="2937240" cy="10004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3480" y="2231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2840" y="2437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43000"/>
                    <a:ext cx="2658600" cy="443880"/>
                    <a:chOff x="2403720" y="2043000"/>
                    <a:chExt cx="2658600" cy="44388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8008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541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8560"/>
                    <a:ext cx="2363760" cy="787680"/>
                    <a:chOff x="2760840" y="1528560"/>
                    <a:chExt cx="2363760" cy="78768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3520" y="18784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8280" y="161712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42720"/>
                    <a:ext cx="2323080" cy="1085760"/>
                    <a:chOff x="2887920" y="1242720"/>
                    <a:chExt cx="2323080" cy="10857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3600" y="1795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5080" y="137664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7000"/>
                    <a:ext cx="2170080" cy="1509120"/>
                    <a:chOff x="3161160" y="837000"/>
                    <a:chExt cx="2170080" cy="150912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801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7600" y="102852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43160"/>
                    <a:ext cx="1987920" cy="1832760"/>
                    <a:chOff x="3436920" y="443160"/>
                    <a:chExt cx="1987920" cy="183276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320" y="150840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640" y="67320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9480"/>
                    <a:ext cx="1451160" cy="1879920"/>
                    <a:chOff x="4026600" y="339480"/>
                    <a:chExt cx="1451160" cy="187992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28640" y="1442880"/>
                      <a:ext cx="1353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1640" y="55044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4200" y="252720"/>
                    <a:ext cx="1116720" cy="1939680"/>
                    <a:chOff x="4444200" y="252720"/>
                    <a:chExt cx="1116720" cy="19396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4500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2880" y="4478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60480"/>
                    <a:ext cx="2318040" cy="1111680"/>
                    <a:chOff x="5661720" y="960480"/>
                    <a:chExt cx="2318040" cy="111168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30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3960" y="1098720"/>
                      <a:ext cx="8172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32880"/>
                    <a:ext cx="2202120" cy="1452600"/>
                    <a:chOff x="5529600" y="632880"/>
                    <a:chExt cx="2202120" cy="145260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4240" y="1437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5200" y="81756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53800" y="146664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84760" y="53820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920"/>
                    <a:ext cx="1187640" cy="1909800"/>
                    <a:chOff x="5355720" y="268920"/>
                    <a:chExt cx="1187640" cy="1909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6440" y="1425600"/>
                      <a:ext cx="13107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78080" y="484560"/>
                      <a:ext cx="70344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000"/>
                    <a:ext cx="1877040" cy="1796760"/>
                    <a:chOff x="5351040" y="387000"/>
                    <a:chExt cx="1877040" cy="179676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50960" y="1386720"/>
                      <a:ext cx="142560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393960" y="582480"/>
                      <a:ext cx="7639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88000"/>
                    <a:ext cx="427680" cy="1808280"/>
                    <a:chOff x="5457960" y="288000"/>
                    <a:chExt cx="427680" cy="180828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6160" y="1453320"/>
                      <a:ext cx="1177200" cy="10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1760" y="530640"/>
                      <a:ext cx="63324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600" y="2539440"/>
                    <a:ext cx="2192760" cy="2994120"/>
                    <a:chOff x="3063600" y="2539440"/>
                    <a:chExt cx="2192760" cy="2994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17480" y="3323880"/>
                      <a:ext cx="21272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70080" y="4590720"/>
                      <a:ext cx="114264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56080"/>
                    <a:ext cx="1484640" cy="3007080"/>
                    <a:chOff x="3787920" y="2656080"/>
                    <a:chExt cx="1484640" cy="300708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5360" y="34480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39320" y="475812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0360" y="2707200"/>
                    <a:ext cx="867240" cy="2925000"/>
                    <a:chOff x="4500360" y="2707200"/>
                    <a:chExt cx="867240" cy="29250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70160" y="3494880"/>
                      <a:ext cx="1889640" cy="34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57800" y="4809600"/>
                      <a:ext cx="10141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3600" y="2494800"/>
                    <a:ext cx="2277000" cy="2941920"/>
                    <a:chOff x="5673600" y="2494800"/>
                    <a:chExt cx="2277000" cy="294192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1520" y="326232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791040" y="449748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95600"/>
                    <a:ext cx="1750680" cy="3033360"/>
                    <a:chOff x="5646240" y="2595600"/>
                    <a:chExt cx="1750680" cy="303336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3920" y="3396960"/>
                      <a:ext cx="20329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43200" y="4721760"/>
                      <a:ext cx="1088640" cy="580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19440"/>
                    <a:ext cx="1229040" cy="2977200"/>
                    <a:chOff x="5575680" y="2719440"/>
                    <a:chExt cx="1229040" cy="297720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5040" y="3553200"/>
                      <a:ext cx="19771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80600" y="4880520"/>
                      <a:ext cx="10602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120" y="2852280"/>
                    <a:ext cx="695160" cy="2776680"/>
                    <a:chOff x="5523120" y="2852280"/>
                    <a:chExt cx="695160" cy="277668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8520" y="3618720"/>
                      <a:ext cx="1811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6280" y="4875840"/>
                      <a:ext cx="9723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94040"/>
                    <a:ext cx="667080" cy="2714040"/>
                    <a:chOff x="4961160" y="2894040"/>
                    <a:chExt cx="667080" cy="27140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4560" y="3672000"/>
                      <a:ext cx="17737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5640" y="4933440"/>
                      <a:ext cx="95148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9400"/>
                <a:ext cx="6732720" cy="4524840"/>
                <a:chOff x="2174400" y="68940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9400"/>
                  <a:ext cx="6732720" cy="4524840"/>
                  <a:chOff x="2174400" y="68940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62200"/>
                    <a:ext cx="3166560" cy="2525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0680" y="2280240"/>
                    <a:ext cx="2487240" cy="2934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7960" y="1758240"/>
                    <a:ext cx="1758600" cy="2938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30500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9400"/>
                    <a:ext cx="228240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842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2000" y="84096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7200" y="2188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440"/>
              <a:ext cx="6411960" cy="4711680"/>
              <a:chOff x="2343960" y="730440"/>
              <a:chExt cx="6411960" cy="471168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70840" y="32544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84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92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716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36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568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5640" y="35665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7200" y="296568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8120" y="3403440"/>
                <a:ext cx="1338480" cy="1881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8840" y="141660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3920" y="312732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8800" y="21286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7920" y="73044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3920" y="217296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473E-F964-4BC8-9DDD-F19D54BB5168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0647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华文琥珀"/>
                <a:ea typeface="华文琥珀"/>
              </a:rPr>
              <a:t>浙江省小学科学网络每月研修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基于科学核心素养的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小学科学教学模式研究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7150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报告人：   李  霞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e1f08"/>
                </a:solidFill>
                <a:latin typeface="黑体"/>
                <a:ea typeface="黑体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提出问题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猜想与假设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制定计划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观察与实验得出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整理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数据思维加工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表达与交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引导式解决：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现象、技能、概念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挑战式           （评价学生的应用能力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放式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（能确定目标、能进行操作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翻转课堂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元认知、建构主义、最近发展区、自主学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翻转与讲授式模式区别图片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教学模式与方法、策略的关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策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----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方法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我的教学模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835280" y="1700280"/>
            <a:ext cx="6840360" cy="3744720"/>
          </a:xfrm>
          <a:prstGeom prst="irregularSeal2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讲授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归纳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支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857160" y="-1230480"/>
            <a:ext cx="7572600" cy="80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68400" y="-316080"/>
            <a:ext cx="889344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三、科学核心素养及教学模式建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（一）科学学科核心素养的研究现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我国学生核心素养指标体系总框架论证报告》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）：必备品格与关键能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科学学科：科学、技术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技术的原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171360"/>
            <a:ext cx="85694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各国课标中科学素养的组成要素比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科学素养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主要目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拿大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新加坡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I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006\2015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右大括号 1"/>
          <p:cNvSpPr/>
          <p:nvPr/>
        </p:nvSpPr>
        <p:spPr>
          <a:xfrm>
            <a:off x="1908000" y="2637000"/>
            <a:ext cx="719280" cy="360036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600360"/>
              <a:gd name="textAreaBottom" fmla="*/ 358164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blipFill rotWithShape="0">
            <a:blip r:embed="rId1">
              <a:alphaModFix amt="7000"/>
            </a:blip>
            <a:srcRect/>
            <a:tile tx="0" ty="0" sx="100000" sy="100000" algn="ctr"/>
          </a:blipFill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文本框 2"/>
          <p:cNvSpPr/>
          <p:nvPr/>
        </p:nvSpPr>
        <p:spPr>
          <a:xfrm>
            <a:off x="3059280" y="3573360"/>
            <a:ext cx="540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哲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探究技能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维能力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情感和正确态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技术、社会、环境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8920" y="620640"/>
            <a:ext cx="898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素养的共同点：五个共同的要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知识（概念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探究（方法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态度（情感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思维（创造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应用（问题解决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-108000" y="0"/>
            <a:ext cx="184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4400" y="401760"/>
            <a:ext cx="5575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08000" y="1866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内科学学科核心素养的研究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大纲到课标的科学素养内涵变化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矩形 6"/>
          <p:cNvSpPr/>
          <p:nvPr/>
        </p:nvSpPr>
        <p:spPr>
          <a:xfrm>
            <a:off x="250920" y="393372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自然大纲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知识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能力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兴趣爱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态度和情感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3924360" y="400536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课程标准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兴趣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知识、方法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程、技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39640" y="398520"/>
            <a:ext cx="72723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个关键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一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二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教学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三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科学素养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2589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）国内科学素养的相关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图片 3" descr="QQ图片科学核心素养"/>
          <p:cNvPicPr/>
          <p:nvPr/>
        </p:nvPicPr>
        <p:blipFill>
          <a:blip r:embed="rId1"/>
          <a:stretch/>
        </p:blipFill>
        <p:spPr>
          <a:xfrm>
            <a:off x="611280" y="1989000"/>
            <a:ext cx="77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101520"/>
            <a:ext cx="889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942840"/>
            <a:ext cx="88930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内容占位符 3" descr=""/>
          <p:cNvPicPr/>
          <p:nvPr/>
        </p:nvPicPr>
        <p:blipFill>
          <a:blip r:embed="rId1"/>
          <a:stretch/>
        </p:blipFill>
        <p:spPr>
          <a:xfrm>
            <a:off x="10800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标题 1"/>
          <p:cNvSpPr/>
          <p:nvPr/>
        </p:nvSpPr>
        <p:spPr>
          <a:xfrm>
            <a:off x="1547640" y="1889280"/>
            <a:ext cx="80647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谢谢！</a:t>
            </a:r>
            <a:r>
              <a:rPr b="0" lang="en-US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         </a:t>
            </a: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请指正！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900000" y="4481640"/>
            <a:ext cx="6715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836280"/>
            <a:ext cx="856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一）科学核心素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础教育阶段，使学生体验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的过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掌握与年龄相适应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科学知识和科学方法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培养学生的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能力、思维能力、创新能力、运用科学解决实际问题、表达和交流能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学生形成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实事求是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科学态度、对科学与探究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好奇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具有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创新意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保护环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意识和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社会责任感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学会与人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合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从而为他们今后学习和终身发展奠定良好的基础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400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二）科学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研究中的科学教学模式是指基于经典教学模式：探究教学模 式、支架教学模式、概念转变模式、问题解决模式、传递授受模式基础上，针对小学生认知特点，进过改造、整合、创新，指向科学核心素养培养的教学模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560" y="98100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．教学模式的理论指导学科教学模式建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行为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认知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建构主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信息加工——认知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别化  ——个别化教学理论和人本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互动——社会心理学的互动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为控制——行为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国：二十世纪八十年代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借鉴国外的教学模式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3" descr="C:\Users\CTPAD\AppData\Roaming\Tencent\Users\2865621088\QQ\WinTemp\RichOle\[WM](D5P31A4S12[9GBM2]E.png"/>
          <p:cNvPicPr/>
          <p:nvPr/>
        </p:nvPicPr>
        <p:blipFill>
          <a:blip r:embed="rId1"/>
          <a:stretch/>
        </p:blipFill>
        <p:spPr>
          <a:xfrm>
            <a:off x="826920" y="698400"/>
            <a:ext cx="7345440" cy="5683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68360" y="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科学课教学模式建构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546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复习阶段模式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梳理单元知识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读书、概念图、重难点讲解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单元试卷测试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综合各类试题、练习题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易错点巩固练习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变式、填空、选择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综合测试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97164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971640" y="3716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900000" y="4724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435640" y="2349360"/>
            <a:ext cx="576360" cy="3672000"/>
          </a:xfrm>
          <a:custGeom>
            <a:avLst/>
            <a:gdLst>
              <a:gd name="textAreaLeft" fmla="*/ 0 w 576360"/>
              <a:gd name="textAreaRight" fmla="*/ 208080 w 576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575760" y="3645000"/>
            <a:ext cx="1826640" cy="8254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行为主义的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操练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强化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记忆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152240" y="5661000"/>
            <a:ext cx="98064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互联网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666120" y="5300640"/>
            <a:ext cx="164376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情绪认知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-324000" y="0"/>
            <a:ext cx="4427640" cy="1557360"/>
          </a:xfrm>
          <a:prstGeom prst="irregularSeal2">
            <a:avLst/>
          </a:prstGeom>
          <a:noFill/>
          <a:ln w="2232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084720" y="1341360"/>
            <a:ext cx="2376720" cy="58140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"/>
                <a:ea typeface="黑体"/>
              </a:rPr>
              <a:t>理念假设</a:t>
            </a:r>
            <a:r>
              <a:rPr b="1" lang="zh-CN" sz="2400" spc="-1" strike="noStrike">
                <a:solidFill>
                  <a:srgbClr val="fe1f08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08000" y="6165720"/>
            <a:ext cx="5185080" cy="45972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Arial"/>
                <a:ea typeface="黑体"/>
              </a:rPr>
              <a:t>解决一类问题（知识的理解和掌握）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1835280" y="5805360"/>
            <a:ext cx="50472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6587640" y="5805360"/>
            <a:ext cx="50508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332000" y="1341360"/>
            <a:ext cx="2376360" cy="52056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"/>
                <a:ea typeface="黑体"/>
              </a:rPr>
              <a:t>环节：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一、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工作和生活中，总会遇到很多问题，解决这些问题的具体的方法和策略有很多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其中一些问题可以归为一类，把解决这类问题的方法、步骤、策略总结归纳抽象成一套方法论，就是模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二、教学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界定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思想或教学理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活动结构框架和程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3708360" y="4221000"/>
            <a:ext cx="144360" cy="1079640"/>
          </a:xfrm>
          <a:prstGeom prst="down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是：一定理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选择教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教室和其他环境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师、学生、媒介的互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评价系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活动的一种计划或范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分析几种教学模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传递</a:t>
            </a: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授受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赫尔巴特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明了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联想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系统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方法（行为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激发学习动机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复习旧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新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巩固应用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奥苏贝尔：有意义建构先行组织者（建构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讲解先行组织者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提出学习任务或学习材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强化认知系统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为什么不在课程开始时就向学生提供理解新观点的桥梁呢？让学生深入了解结构的秘密，懂得它是如何通过进一步探究而不断呈现出来的。这样可以让他们的思维随着课程的进展而活跃起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____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戴维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奥苏贝尔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2:34:35Z</dcterms:created>
  <dc:creator>Hao Jinghua</dc:creator>
  <dc:description/>
  <cp:keywords/>
  <dc:language>en-US</dc:language>
  <cp:lastModifiedBy>apple</cp:lastModifiedBy>
  <dcterms:modified xsi:type="dcterms:W3CDTF">2016-01-15T11:07:27Z</dcterms:modified>
  <cp:revision>134</cp:revision>
  <dc:subject/>
  <dc:title>一年级科学教材实验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