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24F4-CB77-418A-B226-E0032FC3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ADEB-AB8F-46E3-84FA-011C99FA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D5AE-A116-46D0-9213-510A6846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5C85-E19D-4595-A132-B4984B8D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B4D4-30DB-43AA-8F52-DCA56993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D1FA-DBBD-48DE-836B-B907DFF4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3CD1-7863-4650-A721-CE690EB8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F94F-F60C-4D86-9479-5C78E68D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5D50-43BC-43D2-BC17-B5DAD573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AA98-72A9-4BBD-B7F2-F90EF7E6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C798-E3BE-40FA-BDA0-EE7E21EB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05E7-8A85-41E0-A971-04D09B1C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EB97-B8C9-4D66-A468-7B495D79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70E6-1E50-4CE7-BF9E-982B9842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9CCC-3522-4F02-9455-85D23E4A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667E-1BE8-4BED-8157-22BDCAF8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4AA7-C359-4E6A-BEE3-352CB24F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0F41-C2F7-45AD-AB25-2272F233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98AE-D0C2-4836-90D6-2BEFD27C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0067-A1B2-48C3-A376-D67EBFE3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A697-6968-4E8E-A051-CE06630F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4E3F-BA46-4264-AE5A-C51724D1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8BF9-479D-40A4-99CE-4652A903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8B0C-C51B-438D-9BA5-93FC52AA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960"/>
            <a:ext cx="2870280" cy="3276000"/>
            <a:chOff x="6273360" y="-21960"/>
            <a:chExt cx="2870280" cy="327600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5120" cy="753840"/>
              <a:chOff x="7566840" y="2500200"/>
              <a:chExt cx="100512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4760" cy="753840"/>
              <a:chOff x="6328800" y="0"/>
              <a:chExt cx="100476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52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960"/>
              <a:ext cx="2870280" cy="2269440"/>
              <a:chOff x="6273360" y="-21960"/>
              <a:chExt cx="2870280" cy="226944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320" cy="1104480"/>
                <a:chOff x="6990840" y="402840"/>
                <a:chExt cx="149832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32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480"/>
                  <a:ext cx="29628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960"/>
                <a:ext cx="2867400" cy="2269440"/>
                <a:chOff x="6273360" y="-21960"/>
                <a:chExt cx="2867400" cy="226944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600" y="842760"/>
                  <a:ext cx="1065600" cy="1141200"/>
                  <a:chOff x="7833600" y="842760"/>
                  <a:chExt cx="1065600" cy="1141200"/>
                </a:xfrm>
              </p:grpSpPr>
              <p:sp>
                <p:nvSpPr>
                  <p:cNvPr id="16" name="未知"/>
                  <p:cNvSpPr/>
                  <p:nvPr/>
                </p:nvSpPr>
                <p:spPr>
                  <a:xfrm rot="2711400">
                    <a:off x="7759800" y="1133640"/>
                    <a:ext cx="887400" cy="16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未知"/>
                  <p:cNvSpPr/>
                  <p:nvPr/>
                </p:nvSpPr>
                <p:spPr>
                  <a:xfrm rot="2711400">
                    <a:off x="8404920" y="1600920"/>
                    <a:ext cx="47484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未知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未知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未知"/>
                  <p:cNvSpPr/>
                  <p:nvPr/>
                </p:nvSpPr>
                <p:spPr>
                  <a:xfrm rot="1582800">
                    <a:off x="7828200" y="924840"/>
                    <a:ext cx="89028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未知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520"/>
                  <a:ext cx="1303560" cy="669600"/>
                  <a:chOff x="7837200" y="695520"/>
                  <a:chExt cx="1303560" cy="669600"/>
                </a:xfrm>
              </p:grpSpPr>
              <p:sp>
                <p:nvSpPr>
                  <p:cNvPr id="25" name="未知"/>
                  <p:cNvSpPr/>
                  <p:nvPr/>
                </p:nvSpPr>
                <p:spPr>
                  <a:xfrm rot="1080000">
                    <a:off x="7842960" y="824040"/>
                    <a:ext cx="86040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未知"/>
                  <p:cNvSpPr/>
                  <p:nvPr/>
                </p:nvSpPr>
                <p:spPr>
                  <a:xfrm rot="1080000">
                    <a:off x="8650440" y="1032480"/>
                    <a:ext cx="460080" cy="26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未知"/>
                  <p:cNvSpPr/>
                  <p:nvPr/>
                </p:nvSpPr>
                <p:spPr>
                  <a:xfrm rot="463200">
                    <a:off x="7859520" y="709920"/>
                    <a:ext cx="792000" cy="163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未知"/>
                  <p:cNvSpPr/>
                  <p:nvPr/>
                </p:nvSpPr>
                <p:spPr>
                  <a:xfrm rot="463200">
                    <a:off x="8635680" y="797040"/>
                    <a:ext cx="4251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未知"/>
                  <p:cNvSpPr/>
                  <p:nvPr/>
                </p:nvSpPr>
                <p:spPr>
                  <a:xfrm rot="21515400">
                    <a:off x="7872840" y="651240"/>
                    <a:ext cx="72072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未知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未知"/>
                  <p:cNvSpPr/>
                  <p:nvPr/>
                </p:nvSpPr>
                <p:spPr>
                  <a:xfrm rot="20797200">
                    <a:off x="7849080" y="566280"/>
                    <a:ext cx="634680" cy="10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未知"/>
                  <p:cNvSpPr/>
                  <p:nvPr/>
                </p:nvSpPr>
                <p:spPr>
                  <a:xfrm rot="20797200">
                    <a:off x="8472600" y="456120"/>
                    <a:ext cx="340920" cy="176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37" name="未知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未知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5400" cy="1051920"/>
                  <a:chOff x="6303960" y="861840"/>
                  <a:chExt cx="1265400" cy="1051920"/>
                </a:xfrm>
              </p:grpSpPr>
              <p:sp>
                <p:nvSpPr>
                  <p:cNvPr id="40" name="未知"/>
                  <p:cNvSpPr/>
                  <p:nvPr/>
                </p:nvSpPr>
                <p:spPr>
                  <a:xfrm flipH="1" rot="19496400">
                    <a:off x="6672960" y="1112400"/>
                    <a:ext cx="9291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未知"/>
                  <p:cNvSpPr/>
                  <p:nvPr/>
                </p:nvSpPr>
                <p:spPr>
                  <a:xfrm flipH="1" rot="19496400">
                    <a:off x="6338880" y="1515960"/>
                    <a:ext cx="4986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7280"/>
                  <a:ext cx="1288080" cy="828360"/>
                  <a:chOff x="6286320" y="827280"/>
                  <a:chExt cx="1288080" cy="828360"/>
                </a:xfrm>
              </p:grpSpPr>
              <p:sp>
                <p:nvSpPr>
                  <p:cNvPr id="43" name="未知"/>
                  <p:cNvSpPr/>
                  <p:nvPr/>
                </p:nvSpPr>
                <p:spPr>
                  <a:xfrm flipH="1" rot="20017200">
                    <a:off x="6695280" y="1016640"/>
                    <a:ext cx="890280" cy="156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未知"/>
                  <p:cNvSpPr/>
                  <p:nvPr/>
                </p:nvSpPr>
                <p:spPr>
                  <a:xfrm flipH="1" rot="20017200">
                    <a:off x="6314400" y="1321200"/>
                    <a:ext cx="477360" cy="240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2840" cy="668520"/>
                  <a:chOff x="6273360" y="787320"/>
                  <a:chExt cx="1302840" cy="668520"/>
                </a:xfrm>
              </p:grpSpPr>
              <p:sp>
                <p:nvSpPr>
                  <p:cNvPr id="46" name="未知"/>
                  <p:cNvSpPr/>
                  <p:nvPr/>
                </p:nvSpPr>
                <p:spPr>
                  <a:xfrm flipH="1" rot="20520000">
                    <a:off x="6710760" y="915840"/>
                    <a:ext cx="860040" cy="168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未知"/>
                  <p:cNvSpPr/>
                  <p:nvPr/>
                </p:nvSpPr>
                <p:spPr>
                  <a:xfrm flipH="1" rot="20520000">
                    <a:off x="6302880" y="1122840"/>
                    <a:ext cx="461520" cy="26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未知"/>
                  <p:cNvSpPr/>
                  <p:nvPr/>
                </p:nvSpPr>
                <p:spPr>
                  <a:xfrm flipH="1" rot="21136800">
                    <a:off x="6761880" y="801720"/>
                    <a:ext cx="792000" cy="157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未知"/>
                  <p:cNvSpPr/>
                  <p:nvPr/>
                </p:nvSpPr>
                <p:spPr>
                  <a:xfrm flipH="1" rot="21136800">
                    <a:off x="6353280" y="891360"/>
                    <a:ext cx="425160" cy="24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未知"/>
                  <p:cNvSpPr/>
                  <p:nvPr/>
                </p:nvSpPr>
                <p:spPr>
                  <a:xfrm flipH="1" rot="84600">
                    <a:off x="6821280" y="741240"/>
                    <a:ext cx="72036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未知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520" cy="327240"/>
                  <a:chOff x="6585480" y="509760"/>
                  <a:chExt cx="983520" cy="327240"/>
                </a:xfrm>
              </p:grpSpPr>
              <p:sp>
                <p:nvSpPr>
                  <p:cNvPr id="55" name="未知"/>
                  <p:cNvSpPr/>
                  <p:nvPr/>
                </p:nvSpPr>
                <p:spPr>
                  <a:xfrm flipH="1" rot="802800">
                    <a:off x="693144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未知"/>
                  <p:cNvSpPr/>
                  <p:nvPr/>
                </p:nvSpPr>
                <p:spPr>
                  <a:xfrm flipH="1" rot="802800">
                    <a:off x="6600600" y="546480"/>
                    <a:ext cx="33948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960"/>
                  <a:ext cx="967320" cy="451440"/>
                  <a:chOff x="6638400" y="390960"/>
                  <a:chExt cx="967320" cy="451440"/>
                </a:xfrm>
              </p:grpSpPr>
              <p:sp>
                <p:nvSpPr>
                  <p:cNvPr id="58" name="未知"/>
                  <p:cNvSpPr/>
                  <p:nvPr/>
                </p:nvSpPr>
                <p:spPr>
                  <a:xfrm flipH="1" rot="1278000">
                    <a:off x="6973920" y="62028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未知"/>
                  <p:cNvSpPr/>
                  <p:nvPr/>
                </p:nvSpPr>
                <p:spPr>
                  <a:xfrm flipH="1" rot="1278000">
                    <a:off x="6657840" y="446400"/>
                    <a:ext cx="33912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400"/>
                  <a:ext cx="901440" cy="628560"/>
                  <a:chOff x="6752520" y="221400"/>
                  <a:chExt cx="901440" cy="628560"/>
                </a:xfrm>
              </p:grpSpPr>
              <p:sp>
                <p:nvSpPr>
                  <p:cNvPr id="61" name="未知"/>
                  <p:cNvSpPr/>
                  <p:nvPr/>
                </p:nvSpPr>
                <p:spPr>
                  <a:xfrm flipH="1" rot="2028600">
                    <a:off x="7042680" y="574200"/>
                    <a:ext cx="634680" cy="10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未知"/>
                  <p:cNvSpPr/>
                  <p:nvPr/>
                </p:nvSpPr>
                <p:spPr>
                  <a:xfrm flipH="1" rot="2028600">
                    <a:off x="6770520" y="302040"/>
                    <a:ext cx="341640" cy="168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未知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未知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2160" y="15480"/>
                  <a:ext cx="608040" cy="785160"/>
                  <a:chOff x="7112160" y="15480"/>
                  <a:chExt cx="608040" cy="785160"/>
                </a:xfrm>
              </p:grpSpPr>
              <p:sp>
                <p:nvSpPr>
                  <p:cNvPr id="67" name="未知"/>
                  <p:cNvSpPr/>
                  <p:nvPr/>
                </p:nvSpPr>
                <p:spPr>
                  <a:xfrm flipH="1" rot="3474000">
                    <a:off x="7238520" y="474840"/>
                    <a:ext cx="56700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未知"/>
                  <p:cNvSpPr/>
                  <p:nvPr/>
                </p:nvSpPr>
                <p:spPr>
                  <a:xfrm flipH="1" rot="3474000">
                    <a:off x="7114320" y="103320"/>
                    <a:ext cx="3042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960"/>
                  <a:ext cx="466200" cy="810000"/>
                  <a:chOff x="7287480" y="-21960"/>
                  <a:chExt cx="466200" cy="810000"/>
                </a:xfrm>
              </p:grpSpPr>
              <p:sp>
                <p:nvSpPr>
                  <p:cNvPr id="70" name="未知"/>
                  <p:cNvSpPr/>
                  <p:nvPr/>
                </p:nvSpPr>
                <p:spPr>
                  <a:xfrm flipH="1" rot="4126800">
                    <a:off x="7330320" y="457920"/>
                    <a:ext cx="5454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未知"/>
                  <p:cNvSpPr/>
                  <p:nvPr/>
                </p:nvSpPr>
                <p:spPr>
                  <a:xfrm flipH="1" rot="4126800">
                    <a:off x="7274520" y="59760"/>
                    <a:ext cx="2955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240"/>
                  <a:ext cx="964440" cy="461520"/>
                  <a:chOff x="7792920" y="273240"/>
                  <a:chExt cx="964440" cy="461520"/>
                </a:xfrm>
              </p:grpSpPr>
              <p:sp>
                <p:nvSpPr>
                  <p:cNvPr id="73" name="未知"/>
                  <p:cNvSpPr/>
                  <p:nvPr/>
                </p:nvSpPr>
                <p:spPr>
                  <a:xfrm rot="20274000">
                    <a:off x="7790400" y="509040"/>
                    <a:ext cx="63216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未知"/>
                  <p:cNvSpPr/>
                  <p:nvPr/>
                </p:nvSpPr>
                <p:spPr>
                  <a:xfrm rot="20274000">
                    <a:off x="8402040" y="329760"/>
                    <a:ext cx="33480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200" cy="604440"/>
                  <a:chOff x="7737480" y="136800"/>
                  <a:chExt cx="916200" cy="604440"/>
                </a:xfrm>
              </p:grpSpPr>
              <p:sp>
                <p:nvSpPr>
                  <p:cNvPr id="76" name="未知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未知"/>
                  <p:cNvSpPr/>
                  <p:nvPr/>
                </p:nvSpPr>
                <p:spPr>
                  <a:xfrm rot="19678800">
                    <a:off x="8296200" y="212760"/>
                    <a:ext cx="3366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未知"/>
                <p:cNvSpPr/>
                <p:nvPr/>
              </p:nvSpPr>
              <p:spPr>
                <a:xfrm flipH="1" rot="4578600">
                  <a:off x="7405560" y="476280"/>
                  <a:ext cx="528840" cy="74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未知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2240"/>
                  <a:ext cx="496800" cy="792720"/>
                  <a:chOff x="7666200" y="-12240"/>
                  <a:chExt cx="496800" cy="792720"/>
                </a:xfrm>
              </p:grpSpPr>
              <p:sp>
                <p:nvSpPr>
                  <p:cNvPr id="81" name="未知"/>
                  <p:cNvSpPr/>
                  <p:nvPr/>
                </p:nvSpPr>
                <p:spPr>
                  <a:xfrm rot="17742000">
                    <a:off x="7556040" y="467280"/>
                    <a:ext cx="541440" cy="96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未知"/>
                  <p:cNvSpPr/>
                  <p:nvPr/>
                </p:nvSpPr>
                <p:spPr>
                  <a:xfrm rot="17742000">
                    <a:off x="7885440" y="77040"/>
                    <a:ext cx="292680" cy="150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600" y="37440"/>
                  <a:ext cx="785880" cy="748080"/>
                  <a:chOff x="7662600" y="37440"/>
                  <a:chExt cx="785880" cy="748080"/>
                </a:xfrm>
              </p:grpSpPr>
              <p:sp>
                <p:nvSpPr>
                  <p:cNvPr id="84" name="未知"/>
                  <p:cNvSpPr/>
                  <p:nvPr/>
                </p:nvSpPr>
                <p:spPr>
                  <a:xfrm rot="18822600">
                    <a:off x="7621200" y="453600"/>
                    <a:ext cx="592200" cy="139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未知"/>
                  <p:cNvSpPr/>
                  <p:nvPr/>
                </p:nvSpPr>
                <p:spPr>
                  <a:xfrm rot="18822600">
                    <a:off x="8100360" y="118080"/>
                    <a:ext cx="317880" cy="219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120" cy="745200"/>
                  <a:chOff x="7708680" y="-720"/>
                  <a:chExt cx="177120" cy="745200"/>
                </a:xfrm>
              </p:grpSpPr>
              <p:sp>
                <p:nvSpPr>
                  <p:cNvPr id="87" name="未知"/>
                  <p:cNvSpPr/>
                  <p:nvPr/>
                </p:nvSpPr>
                <p:spPr>
                  <a:xfrm rot="16696200">
                    <a:off x="7522200" y="477720"/>
                    <a:ext cx="48708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未知"/>
                  <p:cNvSpPr/>
                  <p:nvPr/>
                </p:nvSpPr>
                <p:spPr>
                  <a:xfrm rot="16696200">
                    <a:off x="7702920" y="98640"/>
                    <a:ext cx="260640" cy="68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040" y="930240"/>
                  <a:ext cx="915480" cy="1248840"/>
                  <a:chOff x="6710040" y="930240"/>
                  <a:chExt cx="915480" cy="1248840"/>
                </a:xfrm>
              </p:grpSpPr>
              <p:sp>
                <p:nvSpPr>
                  <p:cNvPr id="90" name="未知"/>
                  <p:cNvSpPr/>
                  <p:nvPr/>
                </p:nvSpPr>
                <p:spPr>
                  <a:xfrm flipH="1" rot="18336000">
                    <a:off x="6855480" y="1258560"/>
                    <a:ext cx="8906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未知"/>
                  <p:cNvSpPr/>
                  <p:nvPr/>
                </p:nvSpPr>
                <p:spPr>
                  <a:xfrm flipH="1" rot="18336000">
                    <a:off x="6712200" y="1786680"/>
                    <a:ext cx="4762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7040" cy="1248480"/>
                  <a:chOff x="7014960" y="979200"/>
                  <a:chExt cx="617040" cy="1248480"/>
                </a:xfrm>
              </p:grpSpPr>
              <p:sp>
                <p:nvSpPr>
                  <p:cNvPr id="93" name="未知"/>
                  <p:cNvSpPr/>
                  <p:nvPr/>
                </p:nvSpPr>
                <p:spPr>
                  <a:xfrm flipH="1" rot="17543400">
                    <a:off x="6989760" y="1309680"/>
                    <a:ext cx="82260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未知"/>
                  <p:cNvSpPr/>
                  <p:nvPr/>
                </p:nvSpPr>
                <p:spPr>
                  <a:xfrm flipH="1" rot="17543400">
                    <a:off x="6995520" y="1852920"/>
                    <a:ext cx="43596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0800"/>
                  <a:ext cx="364320" cy="1218600"/>
                  <a:chOff x="7312320" y="1000800"/>
                  <a:chExt cx="364320" cy="1218600"/>
                </a:xfrm>
              </p:grpSpPr>
              <p:sp>
                <p:nvSpPr>
                  <p:cNvPr id="96" name="未知"/>
                  <p:cNvSpPr/>
                  <p:nvPr/>
                </p:nvSpPr>
                <p:spPr>
                  <a:xfrm flipH="1" rot="16870800">
                    <a:off x="7134120" y="1328040"/>
                    <a:ext cx="787680" cy="146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未知"/>
                  <p:cNvSpPr/>
                  <p:nvPr/>
                </p:nvSpPr>
                <p:spPr>
                  <a:xfrm flipH="1" rot="16870800">
                    <a:off x="7254000" y="1875600"/>
                    <a:ext cx="421920" cy="228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320" y="909360"/>
                  <a:ext cx="950760" cy="1229040"/>
                  <a:chOff x="7798320" y="909360"/>
                  <a:chExt cx="950760" cy="1229040"/>
                </a:xfrm>
              </p:grpSpPr>
              <p:sp>
                <p:nvSpPr>
                  <p:cNvPr id="99" name="未知"/>
                  <p:cNvSpPr/>
                  <p:nvPr/>
                </p:nvSpPr>
                <p:spPr>
                  <a:xfrm rot="3144000">
                    <a:off x="7689240" y="1229040"/>
                    <a:ext cx="88632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未知"/>
                  <p:cNvSpPr/>
                  <p:nvPr/>
                </p:nvSpPr>
                <p:spPr>
                  <a:xfrm rot="3144000">
                    <a:off x="8265600" y="1746000"/>
                    <a:ext cx="475560" cy="253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7160" y="955800"/>
                  <a:ext cx="731880" cy="1263240"/>
                  <a:chOff x="7787160" y="955800"/>
                  <a:chExt cx="731880" cy="1263240"/>
                </a:xfrm>
              </p:grpSpPr>
              <p:sp>
                <p:nvSpPr>
                  <p:cNvPr id="102" name="未知"/>
                  <p:cNvSpPr/>
                  <p:nvPr/>
                </p:nvSpPr>
                <p:spPr>
                  <a:xfrm rot="3745200">
                    <a:off x="7628400" y="1289160"/>
                    <a:ext cx="846360" cy="154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未知"/>
                  <p:cNvSpPr/>
                  <p:nvPr/>
                </p:nvSpPr>
                <p:spPr>
                  <a:xfrm rot="3745200">
                    <a:off x="8079120" y="1839960"/>
                    <a:ext cx="454320" cy="242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105" name="未知"/>
                  <p:cNvSpPr/>
                  <p:nvPr/>
                </p:nvSpPr>
                <p:spPr>
                  <a:xfrm rot="4286400">
                    <a:off x="7535520" y="1352160"/>
                    <a:ext cx="82296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未知"/>
                  <p:cNvSpPr/>
                  <p:nvPr/>
                </p:nvSpPr>
                <p:spPr>
                  <a:xfrm rot="4286400">
                    <a:off x="7882560" y="1907640"/>
                    <a:ext cx="44064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08" name="未知"/>
                  <p:cNvSpPr/>
                  <p:nvPr/>
                </p:nvSpPr>
                <p:spPr>
                  <a:xfrm rot="4898400">
                    <a:off x="7473960" y="1377000"/>
                    <a:ext cx="75312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未知"/>
                  <p:cNvSpPr/>
                  <p:nvPr/>
                </p:nvSpPr>
                <p:spPr>
                  <a:xfrm rot="4898400">
                    <a:off x="7692840" y="1900080"/>
                    <a:ext cx="40680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120" cy="1131480"/>
                  <a:chOff x="7500600" y="1077840"/>
                  <a:chExt cx="276120" cy="1131480"/>
                </a:xfrm>
              </p:grpSpPr>
              <p:sp>
                <p:nvSpPr>
                  <p:cNvPr id="111" name="未知"/>
                  <p:cNvSpPr/>
                  <p:nvPr/>
                </p:nvSpPr>
                <p:spPr>
                  <a:xfrm rot="5755200">
                    <a:off x="7320240" y="1403280"/>
                    <a:ext cx="74124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未知"/>
                  <p:cNvSpPr/>
                  <p:nvPr/>
                </p:nvSpPr>
                <p:spPr>
                  <a:xfrm rot="5755200">
                    <a:off x="7396920" y="1927440"/>
                    <a:ext cx="39852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未知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43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1960" y="821880"/>
                <a:ext cx="1035000" cy="1214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0520" y="599400"/>
                <a:ext cx="12193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60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36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未知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 flipV="1" rot="19660800">
                <a:off x="761112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760" y="159480"/>
                <a:ext cx="947520" cy="11779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未知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未知"/>
              <p:cNvSpPr/>
              <p:nvPr/>
            </p:nvSpPr>
            <p:spPr>
              <a:xfrm flipH="1">
                <a:off x="6816240" y="457920"/>
                <a:ext cx="3567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 flipH="1">
                <a:off x="722772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未知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0D26-26AB-4651-B850-B88E114880EB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52720"/>
            <a:ext cx="6895800" cy="5443920"/>
            <a:chOff x="2011320" y="252720"/>
            <a:chExt cx="6895800" cy="544392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7960"/>
              <a:ext cx="945720" cy="709920"/>
              <a:chOff x="3484080" y="95796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79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97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52720"/>
              <a:ext cx="6895800" cy="5443920"/>
              <a:chOff x="2011320" y="252720"/>
              <a:chExt cx="6895800" cy="544392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52720"/>
                <a:ext cx="6891120" cy="5443920"/>
                <a:chOff x="2011320" y="252720"/>
                <a:chExt cx="6891120" cy="544392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72240"/>
                  <a:ext cx="3599280" cy="2651400"/>
                  <a:chOff x="3735720" y="1272240"/>
                  <a:chExt cx="3599280" cy="265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7224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120" y="2243520"/>
                    <a:ext cx="71244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52720"/>
                  <a:ext cx="6891120" cy="5443920"/>
                  <a:chOff x="2011320" y="252720"/>
                  <a:chExt cx="6891120" cy="544392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59640" y="2332800"/>
                    <a:ext cx="2552760" cy="2733120"/>
                    <a:chOff x="5759640" y="2332800"/>
                    <a:chExt cx="2552760" cy="2733120"/>
                  </a:xfrm>
                </p:grpSpPr>
                <p:sp>
                  <p:nvSpPr>
                    <p:cNvPr id="187" name="未知"/>
                    <p:cNvSpPr/>
                    <p:nvPr/>
                  </p:nvSpPr>
                  <p:spPr>
                    <a:xfrm rot="2711400">
                      <a:off x="5581080" y="3031200"/>
                      <a:ext cx="2127960" cy="38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未知"/>
                    <p:cNvSpPr/>
                    <p:nvPr/>
                  </p:nvSpPr>
                  <p:spPr>
                    <a:xfrm rot="2711400">
                      <a:off x="7125120" y="4146840"/>
                      <a:ext cx="114156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000" y="2157840"/>
                    <a:ext cx="3040920" cy="2529000"/>
                    <a:chOff x="5787000" y="2157840"/>
                    <a:chExt cx="3040920" cy="2529000"/>
                  </a:xfrm>
                </p:grpSpPr>
                <p:sp>
                  <p:nvSpPr>
                    <p:cNvPr id="190" name="未知"/>
                    <p:cNvSpPr/>
                    <p:nvPr/>
                  </p:nvSpPr>
                  <p:spPr>
                    <a:xfrm rot="2103600">
                      <a:off x="5707080" y="2760840"/>
                      <a:ext cx="2235600" cy="429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未知"/>
                    <p:cNvSpPr/>
                    <p:nvPr/>
                  </p:nvSpPr>
                  <p:spPr>
                    <a:xfrm rot="2103600">
                      <a:off x="7542000" y="3729240"/>
                      <a:ext cx="1200960" cy="673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73600"/>
                    <a:ext cx="3097800" cy="1991880"/>
                    <a:chOff x="5774760" y="2073600"/>
                    <a:chExt cx="3097800" cy="1991880"/>
                  </a:xfrm>
                </p:grpSpPr>
                <p:sp>
                  <p:nvSpPr>
                    <p:cNvPr id="193" name="未知"/>
                    <p:cNvSpPr/>
                    <p:nvPr/>
                  </p:nvSpPr>
                  <p:spPr>
                    <a:xfrm rot="1582800">
                      <a:off x="5746320" y="2529360"/>
                      <a:ext cx="214056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未知"/>
                    <p:cNvSpPr/>
                    <p:nvPr/>
                  </p:nvSpPr>
                  <p:spPr>
                    <a:xfrm rot="1582800">
                      <a:off x="7652880" y="3254400"/>
                      <a:ext cx="1149120" cy="586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560" y="1977480"/>
                    <a:ext cx="3134880" cy="1612440"/>
                    <a:chOff x="5767560" y="1977480"/>
                    <a:chExt cx="3134880" cy="1612440"/>
                  </a:xfrm>
                </p:grpSpPr>
                <p:sp>
                  <p:nvSpPr>
                    <p:cNvPr id="196" name="未知"/>
                    <p:cNvSpPr/>
                    <p:nvPr/>
                  </p:nvSpPr>
                  <p:spPr>
                    <a:xfrm rot="1080000">
                      <a:off x="5780880" y="2286720"/>
                      <a:ext cx="2067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未知"/>
                    <p:cNvSpPr/>
                    <p:nvPr/>
                  </p:nvSpPr>
                  <p:spPr>
                    <a:xfrm rot="1080000">
                      <a:off x="7718040" y="2782440"/>
                      <a:ext cx="1110600" cy="651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88920"/>
                    <a:ext cx="2939040" cy="1000800"/>
                    <a:chOff x="5805720" y="1888920"/>
                    <a:chExt cx="2939040" cy="1000800"/>
                  </a:xfrm>
                </p:grpSpPr>
                <p:sp>
                  <p:nvSpPr>
                    <p:cNvPr id="199" name="未知"/>
                    <p:cNvSpPr/>
                    <p:nvPr/>
                  </p:nvSpPr>
                  <p:spPr>
                    <a:xfrm rot="463200">
                      <a:off x="5823000" y="2014920"/>
                      <a:ext cx="1903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未知"/>
                    <p:cNvSpPr/>
                    <p:nvPr/>
                  </p:nvSpPr>
                  <p:spPr>
                    <a:xfrm rot="463200">
                      <a:off x="7685640" y="2221200"/>
                      <a:ext cx="1023120" cy="602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23400"/>
                    <a:ext cx="2658600" cy="447480"/>
                    <a:chOff x="5851440" y="1823400"/>
                    <a:chExt cx="2658600" cy="447480"/>
                  </a:xfrm>
                </p:grpSpPr>
                <p:sp>
                  <p:nvSpPr>
                    <p:cNvPr id="202" name="未知"/>
                    <p:cNvSpPr/>
                    <p:nvPr/>
                  </p:nvSpPr>
                  <p:spPr>
                    <a:xfrm rot="21515400">
                      <a:off x="5854320" y="186048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未知"/>
                    <p:cNvSpPr/>
                    <p:nvPr/>
                  </p:nvSpPr>
                  <p:spPr>
                    <a:xfrm rot="21515400">
                      <a:off x="7575480" y="1834920"/>
                      <a:ext cx="929520" cy="424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10400"/>
                    <a:ext cx="2364120" cy="790200"/>
                    <a:chOff x="5788440" y="1310400"/>
                    <a:chExt cx="2364120" cy="790200"/>
                  </a:xfrm>
                </p:grpSpPr>
                <p:sp>
                  <p:nvSpPr>
                    <p:cNvPr id="205" name="未知"/>
                    <p:cNvSpPr/>
                    <p:nvPr/>
                  </p:nvSpPr>
                  <p:spPr>
                    <a:xfrm rot="20797200">
                      <a:off x="5798160" y="166284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未知"/>
                    <p:cNvSpPr/>
                    <p:nvPr/>
                  </p:nvSpPr>
                  <p:spPr>
                    <a:xfrm rot="20797200">
                      <a:off x="7299000" y="1398960"/>
                      <a:ext cx="81612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85440"/>
                    <a:ext cx="2556360" cy="2729160"/>
                    <a:chOff x="2646360" y="2485440"/>
                    <a:chExt cx="2556360" cy="2729160"/>
                  </a:xfrm>
                </p:grpSpPr>
                <p:sp>
                  <p:nvSpPr>
                    <p:cNvPr id="208" name="未知"/>
                    <p:cNvSpPr/>
                    <p:nvPr/>
                  </p:nvSpPr>
                  <p:spPr>
                    <a:xfrm flipH="1" rot="18888600">
                      <a:off x="3252960" y="3182760"/>
                      <a:ext cx="212652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未知"/>
                    <p:cNvSpPr/>
                    <p:nvPr/>
                  </p:nvSpPr>
                  <p:spPr>
                    <a:xfrm flipH="1" rot="18888600">
                      <a:off x="2691360" y="429444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75280"/>
                    <a:ext cx="3039120" cy="2531160"/>
                    <a:chOff x="2084760" y="2375280"/>
                    <a:chExt cx="3039120" cy="2531160"/>
                  </a:xfrm>
                </p:grpSpPr>
                <p:sp>
                  <p:nvSpPr>
                    <p:cNvPr id="211" name="未知"/>
                    <p:cNvSpPr/>
                    <p:nvPr/>
                  </p:nvSpPr>
                  <p:spPr>
                    <a:xfrm flipH="1" rot="19496400">
                      <a:off x="2968560" y="2977920"/>
                      <a:ext cx="2234160" cy="42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未知"/>
                    <p:cNvSpPr/>
                    <p:nvPr/>
                  </p:nvSpPr>
                  <p:spPr>
                    <a:xfrm flipH="1" rot="19496400">
                      <a:off x="2168280" y="3949920"/>
                      <a:ext cx="119988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91040"/>
                    <a:ext cx="3097080" cy="1995120"/>
                    <a:chOff x="2040480" y="2291040"/>
                    <a:chExt cx="3097080" cy="1995120"/>
                  </a:xfrm>
                </p:grpSpPr>
                <p:sp>
                  <p:nvSpPr>
                    <p:cNvPr id="214" name="未知"/>
                    <p:cNvSpPr/>
                    <p:nvPr/>
                  </p:nvSpPr>
                  <p:spPr>
                    <a:xfrm flipH="1" rot="20017200">
                      <a:off x="3024720" y="2746800"/>
                      <a:ext cx="214056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未知"/>
                    <p:cNvSpPr/>
                    <p:nvPr/>
                  </p:nvSpPr>
                  <p:spPr>
                    <a:xfrm flipH="1" rot="20017200">
                      <a:off x="2110680" y="3473640"/>
                      <a:ext cx="1149120" cy="587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98520"/>
                    <a:ext cx="3133440" cy="1607400"/>
                    <a:chOff x="2011320" y="2198520"/>
                    <a:chExt cx="3133440" cy="1607400"/>
                  </a:xfrm>
                </p:grpSpPr>
                <p:sp>
                  <p:nvSpPr>
                    <p:cNvPr id="217" name="未知"/>
                    <p:cNvSpPr/>
                    <p:nvPr/>
                  </p:nvSpPr>
                  <p:spPr>
                    <a:xfrm flipH="1" rot="20520000">
                      <a:off x="3063960" y="250776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未知"/>
                    <p:cNvSpPr/>
                    <p:nvPr/>
                  </p:nvSpPr>
                  <p:spPr>
                    <a:xfrm flipH="1" rot="20520000">
                      <a:off x="2084400" y="2999880"/>
                      <a:ext cx="1110600" cy="650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105280"/>
                    <a:ext cx="2937240" cy="1000440"/>
                    <a:chOff x="2167560" y="2105280"/>
                    <a:chExt cx="2937240" cy="1000440"/>
                  </a:xfrm>
                </p:grpSpPr>
                <p:sp>
                  <p:nvSpPr>
                    <p:cNvPr id="220" name="未知"/>
                    <p:cNvSpPr/>
                    <p:nvPr/>
                  </p:nvSpPr>
                  <p:spPr>
                    <a:xfrm flipH="1" rot="21136800">
                      <a:off x="3183480" y="2231280"/>
                      <a:ext cx="19036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未知"/>
                    <p:cNvSpPr/>
                    <p:nvPr/>
                  </p:nvSpPr>
                  <p:spPr>
                    <a:xfrm flipH="1" rot="21136800">
                      <a:off x="2202840" y="2437200"/>
                      <a:ext cx="1023120" cy="602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43000"/>
                    <a:ext cx="2658600" cy="443880"/>
                    <a:chOff x="2403720" y="2043000"/>
                    <a:chExt cx="2658600" cy="443880"/>
                  </a:xfrm>
                </p:grpSpPr>
                <p:sp>
                  <p:nvSpPr>
                    <p:cNvPr id="223" name="未知"/>
                    <p:cNvSpPr/>
                    <p:nvPr/>
                  </p:nvSpPr>
                  <p:spPr>
                    <a:xfrm flipH="1" rot="84600">
                      <a:off x="3327840" y="2080080"/>
                      <a:ext cx="1730880" cy="268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未知"/>
                    <p:cNvSpPr/>
                    <p:nvPr/>
                  </p:nvSpPr>
                  <p:spPr>
                    <a:xfrm flipH="1" rot="84600">
                      <a:off x="2408760" y="2054160"/>
                      <a:ext cx="929520" cy="420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8560"/>
                    <a:ext cx="2363760" cy="787680"/>
                    <a:chOff x="2760840" y="1528560"/>
                    <a:chExt cx="2363760" cy="787680"/>
                  </a:xfrm>
                </p:grpSpPr>
                <p:sp>
                  <p:nvSpPr>
                    <p:cNvPr id="226" name="未知"/>
                    <p:cNvSpPr/>
                    <p:nvPr/>
                  </p:nvSpPr>
                  <p:spPr>
                    <a:xfrm flipH="1" rot="802800">
                      <a:off x="3593520" y="187848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未知"/>
                    <p:cNvSpPr/>
                    <p:nvPr/>
                  </p:nvSpPr>
                  <p:spPr>
                    <a:xfrm flipH="1" rot="802800">
                      <a:off x="2798280" y="1617120"/>
                      <a:ext cx="816120" cy="420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42720"/>
                    <a:ext cx="2323080" cy="1085760"/>
                    <a:chOff x="2887920" y="1242720"/>
                    <a:chExt cx="2323080" cy="1085760"/>
                  </a:xfrm>
                </p:grpSpPr>
                <p:sp>
                  <p:nvSpPr>
                    <p:cNvPr id="229" name="未知"/>
                    <p:cNvSpPr/>
                    <p:nvPr/>
                  </p:nvSpPr>
                  <p:spPr>
                    <a:xfrm flipH="1" rot="1278000">
                      <a:off x="3693600" y="179568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未知"/>
                    <p:cNvSpPr/>
                    <p:nvPr/>
                  </p:nvSpPr>
                  <p:spPr>
                    <a:xfrm flipH="1" rot="1278000">
                      <a:off x="2935080" y="1376640"/>
                      <a:ext cx="816120" cy="415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7000"/>
                    <a:ext cx="2170080" cy="1509120"/>
                    <a:chOff x="3161160" y="837000"/>
                    <a:chExt cx="2170080" cy="1509120"/>
                  </a:xfrm>
                </p:grpSpPr>
                <p:sp>
                  <p:nvSpPr>
                    <p:cNvPr id="232" name="未知"/>
                    <p:cNvSpPr/>
                    <p:nvPr/>
                  </p:nvSpPr>
                  <p:spPr>
                    <a:xfrm flipH="1" rot="2028600">
                      <a:off x="3864960" y="168012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未知"/>
                    <p:cNvSpPr/>
                    <p:nvPr/>
                  </p:nvSpPr>
                  <p:spPr>
                    <a:xfrm flipH="1" rot="2028600">
                      <a:off x="3207600" y="102852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6920" y="443160"/>
                    <a:ext cx="1987920" cy="1832760"/>
                    <a:chOff x="3436920" y="443160"/>
                    <a:chExt cx="1987920" cy="1832760"/>
                  </a:xfrm>
                </p:grpSpPr>
                <p:sp>
                  <p:nvSpPr>
                    <p:cNvPr id="235" name="未知"/>
                    <p:cNvSpPr/>
                    <p:nvPr/>
                  </p:nvSpPr>
                  <p:spPr>
                    <a:xfrm flipH="1" rot="2664600">
                      <a:off x="4009320" y="1508400"/>
                      <a:ext cx="1542600" cy="265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未知"/>
                    <p:cNvSpPr/>
                    <p:nvPr/>
                  </p:nvSpPr>
                  <p:spPr>
                    <a:xfrm flipH="1" rot="2664600">
                      <a:off x="3464640" y="673200"/>
                      <a:ext cx="828360" cy="418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600" y="339480"/>
                    <a:ext cx="1451160" cy="1879920"/>
                    <a:chOff x="4026600" y="339480"/>
                    <a:chExt cx="1451160" cy="1879920"/>
                  </a:xfrm>
                </p:grpSpPr>
                <p:sp>
                  <p:nvSpPr>
                    <p:cNvPr id="238" name="未知"/>
                    <p:cNvSpPr/>
                    <p:nvPr/>
                  </p:nvSpPr>
                  <p:spPr>
                    <a:xfrm flipH="1" rot="3474000">
                      <a:off x="4328640" y="1442880"/>
                      <a:ext cx="1353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未知"/>
                    <p:cNvSpPr/>
                    <p:nvPr/>
                  </p:nvSpPr>
                  <p:spPr>
                    <a:xfrm flipH="1" rot="3474000">
                      <a:off x="4031640" y="550440"/>
                      <a:ext cx="72936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4200" y="252720"/>
                    <a:ext cx="1116720" cy="1939680"/>
                    <a:chOff x="4444200" y="252720"/>
                    <a:chExt cx="1116720" cy="1939680"/>
                  </a:xfrm>
                </p:grpSpPr>
                <p:sp>
                  <p:nvSpPr>
                    <p:cNvPr id="241" name="未知"/>
                    <p:cNvSpPr/>
                    <p:nvPr/>
                  </p:nvSpPr>
                  <p:spPr>
                    <a:xfrm flipH="1" rot="4126800">
                      <a:off x="4545000" y="1401120"/>
                      <a:ext cx="13096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未知"/>
                    <p:cNvSpPr/>
                    <p:nvPr/>
                  </p:nvSpPr>
                  <p:spPr>
                    <a:xfrm flipH="1" rot="4126800">
                      <a:off x="4412880" y="447840"/>
                      <a:ext cx="70344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60480"/>
                    <a:ext cx="2318040" cy="1111680"/>
                    <a:chOff x="5661720" y="960480"/>
                    <a:chExt cx="2318040" cy="1111680"/>
                  </a:xfrm>
                </p:grpSpPr>
                <p:sp>
                  <p:nvSpPr>
                    <p:cNvPr id="244" name="未知"/>
                    <p:cNvSpPr/>
                    <p:nvPr/>
                  </p:nvSpPr>
                  <p:spPr>
                    <a:xfrm rot="20274000">
                      <a:off x="5655600" y="15307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未知"/>
                    <p:cNvSpPr/>
                    <p:nvPr/>
                  </p:nvSpPr>
                  <p:spPr>
                    <a:xfrm rot="20274000">
                      <a:off x="7113960" y="1098720"/>
                      <a:ext cx="817200" cy="415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32880"/>
                    <a:ext cx="2202120" cy="1452600"/>
                    <a:chOff x="5529600" y="632880"/>
                    <a:chExt cx="2202120" cy="1452600"/>
                  </a:xfrm>
                </p:grpSpPr>
                <p:sp>
                  <p:nvSpPr>
                    <p:cNvPr id="247" name="未知"/>
                    <p:cNvSpPr/>
                    <p:nvPr/>
                  </p:nvSpPr>
                  <p:spPr>
                    <a:xfrm rot="19678800">
                      <a:off x="5484240" y="1437120"/>
                      <a:ext cx="151992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未知"/>
                    <p:cNvSpPr/>
                    <p:nvPr/>
                  </p:nvSpPr>
                  <p:spPr>
                    <a:xfrm rot="19678800">
                      <a:off x="6865200" y="817560"/>
                      <a:ext cx="817560" cy="418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未知"/>
                  <p:cNvSpPr/>
                  <p:nvPr/>
                </p:nvSpPr>
                <p:spPr>
                  <a:xfrm flipH="1" rot="4578600">
                    <a:off x="4753800" y="1466640"/>
                    <a:ext cx="126612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未知"/>
                  <p:cNvSpPr/>
                  <p:nvPr/>
                </p:nvSpPr>
                <p:spPr>
                  <a:xfrm flipH="1" rot="4578600">
                    <a:off x="4784760" y="538200"/>
                    <a:ext cx="6789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8920"/>
                    <a:ext cx="1187640" cy="1909800"/>
                    <a:chOff x="5355720" y="268920"/>
                    <a:chExt cx="1187640" cy="1909800"/>
                  </a:xfrm>
                </p:grpSpPr>
                <p:sp>
                  <p:nvSpPr>
                    <p:cNvPr id="252" name="未知"/>
                    <p:cNvSpPr/>
                    <p:nvPr/>
                  </p:nvSpPr>
                  <p:spPr>
                    <a:xfrm rot="17742000">
                      <a:off x="5086440" y="1425600"/>
                      <a:ext cx="131076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未知"/>
                    <p:cNvSpPr/>
                    <p:nvPr/>
                  </p:nvSpPr>
                  <p:spPr>
                    <a:xfrm rot="17742000">
                      <a:off x="5878080" y="484560"/>
                      <a:ext cx="703440" cy="357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1040" y="387000"/>
                    <a:ext cx="1877040" cy="1796760"/>
                    <a:chOff x="5351040" y="387000"/>
                    <a:chExt cx="1877040" cy="1796760"/>
                  </a:xfrm>
                </p:grpSpPr>
                <p:sp>
                  <p:nvSpPr>
                    <p:cNvPr id="255" name="未知"/>
                    <p:cNvSpPr/>
                    <p:nvPr/>
                  </p:nvSpPr>
                  <p:spPr>
                    <a:xfrm rot="18822600">
                      <a:off x="5250960" y="1386720"/>
                      <a:ext cx="1425600" cy="33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未知"/>
                    <p:cNvSpPr/>
                    <p:nvPr/>
                  </p:nvSpPr>
                  <p:spPr>
                    <a:xfrm rot="18822600">
                      <a:off x="6393960" y="582480"/>
                      <a:ext cx="76392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7960" y="288000"/>
                    <a:ext cx="427680" cy="1808280"/>
                    <a:chOff x="5457960" y="288000"/>
                    <a:chExt cx="427680" cy="1808280"/>
                  </a:xfrm>
                </p:grpSpPr>
                <p:sp>
                  <p:nvSpPr>
                    <p:cNvPr id="258" name="未知"/>
                    <p:cNvSpPr/>
                    <p:nvPr/>
                  </p:nvSpPr>
                  <p:spPr>
                    <a:xfrm rot="16696200">
                      <a:off x="5006160" y="1453320"/>
                      <a:ext cx="1177200" cy="105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未知"/>
                    <p:cNvSpPr/>
                    <p:nvPr/>
                  </p:nvSpPr>
                  <p:spPr>
                    <a:xfrm rot="16696200">
                      <a:off x="5441760" y="530640"/>
                      <a:ext cx="633240" cy="164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600" y="2539440"/>
                    <a:ext cx="2192760" cy="2994120"/>
                    <a:chOff x="3063600" y="2539440"/>
                    <a:chExt cx="2192760" cy="2994120"/>
                  </a:xfrm>
                </p:grpSpPr>
                <p:sp>
                  <p:nvSpPr>
                    <p:cNvPr id="261" name="未知"/>
                    <p:cNvSpPr/>
                    <p:nvPr/>
                  </p:nvSpPr>
                  <p:spPr>
                    <a:xfrm flipH="1" rot="18336000">
                      <a:off x="3417480" y="3323880"/>
                      <a:ext cx="212724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未知"/>
                    <p:cNvSpPr/>
                    <p:nvPr/>
                  </p:nvSpPr>
                  <p:spPr>
                    <a:xfrm flipH="1" rot="18336000">
                      <a:off x="3070080" y="4590720"/>
                      <a:ext cx="1142640" cy="604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87920" y="2656080"/>
                    <a:ext cx="1484640" cy="3007080"/>
                    <a:chOff x="3787920" y="2656080"/>
                    <a:chExt cx="1484640" cy="3007080"/>
                  </a:xfrm>
                </p:grpSpPr>
                <p:sp>
                  <p:nvSpPr>
                    <p:cNvPr id="264" name="未知"/>
                    <p:cNvSpPr/>
                    <p:nvPr/>
                  </p:nvSpPr>
                  <p:spPr>
                    <a:xfrm flipH="1" rot="17543400">
                      <a:off x="3735360" y="3448080"/>
                      <a:ext cx="1969560" cy="38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未知"/>
                    <p:cNvSpPr/>
                    <p:nvPr/>
                  </p:nvSpPr>
                  <p:spPr>
                    <a:xfrm flipH="1" rot="17543400">
                      <a:off x="3739320" y="4758120"/>
                      <a:ext cx="105624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0360" y="2707200"/>
                    <a:ext cx="867240" cy="2925000"/>
                    <a:chOff x="4500360" y="2707200"/>
                    <a:chExt cx="867240" cy="2925000"/>
                  </a:xfrm>
                </p:grpSpPr>
                <p:sp>
                  <p:nvSpPr>
                    <p:cNvPr id="267" name="未知"/>
                    <p:cNvSpPr/>
                    <p:nvPr/>
                  </p:nvSpPr>
                  <p:spPr>
                    <a:xfrm flipH="1" rot="16870800">
                      <a:off x="4070160" y="3494880"/>
                      <a:ext cx="1889640" cy="345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未知"/>
                    <p:cNvSpPr/>
                    <p:nvPr/>
                  </p:nvSpPr>
                  <p:spPr>
                    <a:xfrm flipH="1" rot="16870800">
                      <a:off x="4357800" y="4809600"/>
                      <a:ext cx="10141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3600" y="2494800"/>
                    <a:ext cx="2277000" cy="2941920"/>
                    <a:chOff x="5673600" y="2494800"/>
                    <a:chExt cx="2277000" cy="2941920"/>
                  </a:xfrm>
                </p:grpSpPr>
                <p:sp>
                  <p:nvSpPr>
                    <p:cNvPr id="270" name="未知"/>
                    <p:cNvSpPr/>
                    <p:nvPr/>
                  </p:nvSpPr>
                  <p:spPr>
                    <a:xfrm rot="3144000">
                      <a:off x="5411520" y="3262320"/>
                      <a:ext cx="212796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未知"/>
                    <p:cNvSpPr/>
                    <p:nvPr/>
                  </p:nvSpPr>
                  <p:spPr>
                    <a:xfrm rot="3144000">
                      <a:off x="6791040" y="4497480"/>
                      <a:ext cx="11426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240" y="2595600"/>
                    <a:ext cx="1750680" cy="3033360"/>
                    <a:chOff x="5646240" y="2595600"/>
                    <a:chExt cx="1750680" cy="3033360"/>
                  </a:xfrm>
                </p:grpSpPr>
                <p:sp>
                  <p:nvSpPr>
                    <p:cNvPr id="273" name="未知"/>
                    <p:cNvSpPr/>
                    <p:nvPr/>
                  </p:nvSpPr>
                  <p:spPr>
                    <a:xfrm rot="3745200">
                      <a:off x="5263920" y="3396960"/>
                      <a:ext cx="2032920" cy="369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未知"/>
                    <p:cNvSpPr/>
                    <p:nvPr/>
                  </p:nvSpPr>
                  <p:spPr>
                    <a:xfrm rot="3745200">
                      <a:off x="6343200" y="4721760"/>
                      <a:ext cx="1088640" cy="580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5680" y="2719440"/>
                    <a:ext cx="1229040" cy="2977200"/>
                    <a:chOff x="5575680" y="2719440"/>
                    <a:chExt cx="1229040" cy="2977200"/>
                  </a:xfrm>
                </p:grpSpPr>
                <p:sp>
                  <p:nvSpPr>
                    <p:cNvPr id="276" name="未知"/>
                    <p:cNvSpPr/>
                    <p:nvPr/>
                  </p:nvSpPr>
                  <p:spPr>
                    <a:xfrm rot="4286400">
                      <a:off x="5045040" y="3553200"/>
                      <a:ext cx="197712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未知"/>
                    <p:cNvSpPr/>
                    <p:nvPr/>
                  </p:nvSpPr>
                  <p:spPr>
                    <a:xfrm rot="4286400">
                      <a:off x="5880600" y="4880520"/>
                      <a:ext cx="106020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3120" y="2852280"/>
                    <a:ext cx="695160" cy="2776680"/>
                    <a:chOff x="5523120" y="2852280"/>
                    <a:chExt cx="695160" cy="2776680"/>
                  </a:xfrm>
                </p:grpSpPr>
                <p:sp>
                  <p:nvSpPr>
                    <p:cNvPr id="279" name="未知"/>
                    <p:cNvSpPr/>
                    <p:nvPr/>
                  </p:nvSpPr>
                  <p:spPr>
                    <a:xfrm rot="4898400">
                      <a:off x="4898520" y="3618720"/>
                      <a:ext cx="1811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未知"/>
                    <p:cNvSpPr/>
                    <p:nvPr/>
                  </p:nvSpPr>
                  <p:spPr>
                    <a:xfrm rot="4898400">
                      <a:off x="5426280" y="4875840"/>
                      <a:ext cx="97236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94040"/>
                    <a:ext cx="667080" cy="2714040"/>
                    <a:chOff x="4961160" y="2894040"/>
                    <a:chExt cx="667080" cy="2714040"/>
                  </a:xfrm>
                </p:grpSpPr>
                <p:sp>
                  <p:nvSpPr>
                    <p:cNvPr id="282" name="未知"/>
                    <p:cNvSpPr/>
                    <p:nvPr/>
                  </p:nvSpPr>
                  <p:spPr>
                    <a:xfrm rot="5755200">
                      <a:off x="4534560" y="3672000"/>
                      <a:ext cx="17737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未知"/>
                    <p:cNvSpPr/>
                    <p:nvPr/>
                  </p:nvSpPr>
                  <p:spPr>
                    <a:xfrm rot="5755200">
                      <a:off x="4715640" y="4933440"/>
                      <a:ext cx="951480" cy="36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9400"/>
                <a:ext cx="6732720" cy="4524840"/>
                <a:chOff x="2174400" y="689400"/>
                <a:chExt cx="6732720" cy="45248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9400"/>
                  <a:ext cx="6732720" cy="4524840"/>
                  <a:chOff x="2174400" y="689400"/>
                  <a:chExt cx="6732720" cy="45248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62200"/>
                    <a:ext cx="3166560" cy="25254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0680" y="2280240"/>
                    <a:ext cx="2487240" cy="29340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7960" y="1758240"/>
                    <a:ext cx="1758600" cy="29386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305000"/>
                    <a:ext cx="3133440" cy="29379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9400"/>
                    <a:ext cx="2282400" cy="28440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84240"/>
                    <a:ext cx="940680" cy="284400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未知"/>
                  <p:cNvSpPr/>
                  <p:nvPr/>
                </p:nvSpPr>
                <p:spPr>
                  <a:xfrm flipH="1">
                    <a:off x="4302000" y="840960"/>
                    <a:ext cx="515160" cy="18788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未知"/>
                <p:cNvSpPr/>
                <p:nvPr/>
              </p:nvSpPr>
              <p:spPr>
                <a:xfrm rot="20253000">
                  <a:off x="6127200" y="2188800"/>
                  <a:ext cx="546120" cy="103320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30440"/>
              <a:ext cx="6411960" cy="4711680"/>
              <a:chOff x="2343960" y="730440"/>
              <a:chExt cx="6411960" cy="4711680"/>
            </a:xfrm>
          </p:grpSpPr>
          <p:sp>
            <p:nvSpPr>
              <p:cNvPr id="295" name="未知"/>
              <p:cNvSpPr/>
              <p:nvPr/>
            </p:nvSpPr>
            <p:spPr>
              <a:xfrm flipH="1">
                <a:off x="4470840" y="3254400"/>
                <a:ext cx="598320" cy="18252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8840"/>
                <a:ext cx="2617200" cy="2843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40920"/>
                <a:ext cx="1534320" cy="29361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7160"/>
                <a:ext cx="2930760" cy="2936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9360"/>
                <a:ext cx="469800" cy="29358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5680"/>
                <a:ext cx="1238040" cy="2936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未知"/>
              <p:cNvSpPr/>
              <p:nvPr/>
            </p:nvSpPr>
            <p:spPr>
              <a:xfrm>
                <a:off x="6155640" y="3566520"/>
                <a:ext cx="598320" cy="18252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未知"/>
              <p:cNvSpPr/>
              <p:nvPr/>
            </p:nvSpPr>
            <p:spPr>
              <a:xfrm flipV="1" rot="19660800">
                <a:off x="5227200" y="2965680"/>
                <a:ext cx="543600" cy="10342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未知"/>
              <p:cNvSpPr/>
              <p:nvPr/>
            </p:nvSpPr>
            <p:spPr>
              <a:xfrm flipH="1">
                <a:off x="2688120" y="3403440"/>
                <a:ext cx="1338480" cy="1881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未知"/>
              <p:cNvSpPr/>
              <p:nvPr/>
            </p:nvSpPr>
            <p:spPr>
              <a:xfrm flipH="1">
                <a:off x="3318840" y="1416600"/>
                <a:ext cx="858240" cy="1880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未知"/>
              <p:cNvSpPr/>
              <p:nvPr/>
            </p:nvSpPr>
            <p:spPr>
              <a:xfrm>
                <a:off x="7513920" y="3127320"/>
                <a:ext cx="1242000" cy="1974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未知"/>
              <p:cNvSpPr/>
              <p:nvPr/>
            </p:nvSpPr>
            <p:spPr>
              <a:xfrm>
                <a:off x="6868800" y="2128680"/>
                <a:ext cx="1872360" cy="1316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未知"/>
              <p:cNvSpPr/>
              <p:nvPr/>
            </p:nvSpPr>
            <p:spPr>
              <a:xfrm>
                <a:off x="6937920" y="730440"/>
                <a:ext cx="819000" cy="1769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未知"/>
              <p:cNvSpPr/>
              <p:nvPr/>
            </p:nvSpPr>
            <p:spPr>
              <a:xfrm flipH="1" rot="1347000">
                <a:off x="4183920" y="2172960"/>
                <a:ext cx="542880" cy="103284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2ECE-5B85-455A-B0A4-366DFDA0B1E0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064720" cy="36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00"/>
                </a:solidFill>
                <a:latin typeface="华文琥珀"/>
                <a:ea typeface="华文琥珀"/>
              </a:rPr>
              <a:t>浙江省小学科学网络每月研修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zh-CN" sz="5400" spc="-1" strike="noStrike">
                <a:solidFill>
                  <a:srgbClr val="ffcc00"/>
                </a:solidFill>
                <a:latin typeface="华文琥珀"/>
                <a:ea typeface="华文琥珀"/>
              </a:rPr>
              <a:t>基于科学核心素养的</a:t>
            </a:r>
            <a:br>
              <a:rPr sz="5400"/>
            </a:br>
            <a:r>
              <a:rPr b="0" lang="en-US" sz="5400" spc="-1" strike="noStrike">
                <a:solidFill>
                  <a:srgbClr val="ffcc00"/>
                </a:solidFill>
                <a:latin typeface="华文琥珀"/>
                <a:ea typeface="华文琥珀"/>
              </a:rPr>
              <a:t>   </a:t>
            </a:r>
            <a:r>
              <a:rPr b="0" lang="zh-CN" sz="5400" spc="-1" strike="noStrike">
                <a:solidFill>
                  <a:srgbClr val="ffcc00"/>
                </a:solidFill>
                <a:latin typeface="华文琥珀"/>
                <a:ea typeface="华文琥珀"/>
              </a:rPr>
              <a:t>小学科学教学模式研究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899640" y="4149360"/>
            <a:ext cx="6715080" cy="17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报告人：   李  霞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2016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01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月</a:t>
            </a: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15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日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1f08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e1f08"/>
                </a:solidFill>
                <a:latin typeface="黑体"/>
                <a:ea typeface="黑体"/>
              </a:rPr>
              <a:t>探究教学模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提出问题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猜想与假设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制定计划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观察与实验得出数据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整理数据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数据思维加工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表达与交流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引导式解决：  </a:t>
            </a:r>
            <a:r>
              <a:rPr b="1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现象、技能、概念</a:t>
            </a:r>
            <a:r>
              <a:rPr b="1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挑战式           （评价学生的应用能力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开放式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（能确定目标、能进行操作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(3)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翻转课堂教学模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元认知、建构主义、最近发展区、自主学习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3" name="Picture 6" descr="翻转与讲授式模式区别图片"/>
          <p:cNvPicPr/>
          <p:nvPr/>
        </p:nvPicPr>
        <p:blipFill>
          <a:blip r:embed="rId1"/>
          <a:stretch/>
        </p:blipFill>
        <p:spPr>
          <a:xfrm>
            <a:off x="324000" y="1125360"/>
            <a:ext cx="856908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、教学模式与方法、策略的关系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学模式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学策略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----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学方法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、 </a:t>
            </a:r>
            <a:r>
              <a:rPr b="1" lang="zh-CN" sz="4400" spc="-1" strike="noStrike">
                <a:solidFill>
                  <a:srgbClr val="ffcc00"/>
                </a:solidFill>
                <a:latin typeface="Arial Black"/>
                <a:ea typeface="黑体"/>
              </a:rPr>
              <a:t>我的教学模式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AutoShape 4"/>
          <p:cNvSpPr/>
          <p:nvPr/>
        </p:nvSpPr>
        <p:spPr>
          <a:xfrm>
            <a:off x="1835280" y="1700280"/>
            <a:ext cx="6840360" cy="3744720"/>
          </a:xfrm>
          <a:prstGeom prst="irregularSeal2">
            <a:avLst/>
          </a:prstGeom>
          <a:noFill/>
          <a:ln w="507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讲授教学模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归纳教学模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探究教学模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支架教学模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857160" y="-1230480"/>
            <a:ext cx="7572600" cy="808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-68400" y="-316080"/>
            <a:ext cx="8893440" cy="73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三、科学核心素养及教学模式建构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黑体"/>
                <a:ea typeface="黑体"/>
              </a:rPr>
              <a:t>（一）科学学科核心素养的研究现状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《我国学生核心素养指标体系总框架论证报告》（</a:t>
            </a: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014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年）：必备品格与关键能力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科学学科：科学、技术与应用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 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*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技术的原理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 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*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方法与应用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 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*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精神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0" y="-171360"/>
            <a:ext cx="85694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国际科学学科核心素养的研究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各国课标中科学素养的组成要素比较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美国      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科学素养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-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主要目标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法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英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加拿大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新加坡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日本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PIS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(2006\2015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右大括号 1"/>
          <p:cNvSpPr/>
          <p:nvPr/>
        </p:nvSpPr>
        <p:spPr>
          <a:xfrm>
            <a:off x="1908000" y="2637000"/>
            <a:ext cx="719280" cy="3600360"/>
          </a:xfrm>
          <a:custGeom>
            <a:avLst/>
            <a:gdLst>
              <a:gd name="textAreaLeft" fmla="*/ 0 w 719280"/>
              <a:gd name="textAreaRight" fmla="*/ 259560 w 719280"/>
              <a:gd name="textAreaTop" fmla="*/ 18720 h 3600360"/>
              <a:gd name="textAreaBottom" fmla="*/ 358164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16200" y="10800"/>
                  <a:pt x="21600" y="10800"/>
                </a:cubicBezTo>
                <a:cubicBezTo>
                  <a:pt x="162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5400" y="21600"/>
                  <a:pt x="0" y="21600"/>
                </a:cubicBezTo>
              </a:path>
            </a:pathLst>
          </a:custGeom>
          <a:blipFill rotWithShape="0">
            <a:blip r:embed="rId1">
              <a:alphaModFix amt="7000"/>
            </a:blip>
            <a:srcRect/>
            <a:tile tx="0" ty="0" sx="100000" sy="100000" algn="ctr"/>
          </a:blipFill>
          <a:ln w="507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文本框 2"/>
          <p:cNvSpPr/>
          <p:nvPr/>
        </p:nvSpPr>
        <p:spPr>
          <a:xfrm>
            <a:off x="3059280" y="3573360"/>
            <a:ext cx="5400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科学哲学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科学探究技能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思维能力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情感和正确态度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科学技术、社会、环境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178920" y="620640"/>
            <a:ext cx="8982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国际科学学科核心素养的研究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科学素养的共同点：五个共同的要素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知识（概念）</a:t>
            </a: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         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探究（方法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态度（情感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思维（创造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应用（问题解决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矩形 3"/>
          <p:cNvSpPr/>
          <p:nvPr/>
        </p:nvSpPr>
        <p:spPr>
          <a:xfrm>
            <a:off x="-108000" y="0"/>
            <a:ext cx="1843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矩形 3"/>
          <p:cNvSpPr/>
          <p:nvPr/>
        </p:nvSpPr>
        <p:spPr>
          <a:xfrm>
            <a:off x="14400" y="401760"/>
            <a:ext cx="55753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矩形 4"/>
          <p:cNvSpPr/>
          <p:nvPr/>
        </p:nvSpPr>
        <p:spPr>
          <a:xfrm>
            <a:off x="108000" y="186696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国内科学学科核心素养的研究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大纲到课标的科学素养内涵变化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矩形 6"/>
          <p:cNvSpPr/>
          <p:nvPr/>
        </p:nvSpPr>
        <p:spPr>
          <a:xfrm>
            <a:off x="250920" y="3933720"/>
            <a:ext cx="367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自然大纲：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知识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基本能力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兴趣爱好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科学态度和情感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矩形 4"/>
          <p:cNvSpPr/>
          <p:nvPr/>
        </p:nvSpPr>
        <p:spPr>
          <a:xfrm>
            <a:off x="3924360" y="4005360"/>
            <a:ext cx="410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课程标准：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科学兴趣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科学知识、方法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过程、技能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科学精神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2"/>
          <p:cNvSpPr/>
          <p:nvPr/>
        </p:nvSpPr>
        <p:spPr>
          <a:xfrm>
            <a:off x="539640" y="398520"/>
            <a:ext cx="7272360" cy="66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三个关键词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●</a:t>
            </a: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一、</a:t>
            </a:r>
            <a:r>
              <a:rPr b="1" lang="zh-CN" sz="54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模式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●</a:t>
            </a: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二、</a:t>
            </a:r>
            <a:r>
              <a:rPr b="1" lang="zh-CN" sz="54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教学模式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●</a:t>
            </a: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三、</a:t>
            </a:r>
            <a:r>
              <a:rPr b="1" lang="zh-CN" sz="54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科学素养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23640" y="1258920"/>
            <a:ext cx="90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66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ff66"/>
                </a:solidFill>
                <a:latin typeface="黑体"/>
                <a:ea typeface="黑体"/>
              </a:rPr>
              <a:t>）国内科学素养的相关研究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3" name="图片 3" descr="QQ图片科学核心素养"/>
          <p:cNvPicPr/>
          <p:nvPr/>
        </p:nvPicPr>
        <p:blipFill>
          <a:blip r:embed="rId1"/>
          <a:stretch/>
        </p:blipFill>
        <p:spPr>
          <a:xfrm>
            <a:off x="611280" y="1989000"/>
            <a:ext cx="7777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250920" y="101520"/>
            <a:ext cx="889308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250920" y="942840"/>
            <a:ext cx="889308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1" name="内容占位符 3" descr=""/>
          <p:cNvPicPr/>
          <p:nvPr/>
        </p:nvPicPr>
        <p:blipFill>
          <a:blip r:embed="rId1"/>
          <a:stretch/>
        </p:blipFill>
        <p:spPr>
          <a:xfrm>
            <a:off x="108000" y="0"/>
            <a:ext cx="888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标题 1"/>
          <p:cNvSpPr/>
          <p:nvPr/>
        </p:nvSpPr>
        <p:spPr>
          <a:xfrm>
            <a:off x="1547640" y="1889280"/>
            <a:ext cx="8064720" cy="17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00"/>
                </a:solidFill>
                <a:latin typeface="华文琥珀"/>
                <a:ea typeface="华文琥珀"/>
              </a:rPr>
              <a:t>谢谢！</a:t>
            </a:r>
            <a:r>
              <a:rPr b="0" lang="en-US" sz="6600" spc="-1" strike="noStrike">
                <a:solidFill>
                  <a:srgbClr val="ffcc00"/>
                </a:solidFill>
                <a:latin typeface="华文琥珀"/>
                <a:ea typeface="华文琥珀"/>
              </a:rPr>
              <a:t>   </a:t>
            </a:r>
            <a:endParaRPr b="1" lang="en-US" sz="66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00"/>
                </a:solidFill>
                <a:latin typeface="华文琥珀"/>
                <a:ea typeface="华文琥珀"/>
              </a:rPr>
              <a:t>            </a:t>
            </a:r>
            <a:r>
              <a:rPr b="0" lang="zh-CN" sz="6600" spc="-1" strike="noStrike">
                <a:solidFill>
                  <a:srgbClr val="ffcc00"/>
                </a:solidFill>
                <a:latin typeface="华文琥珀"/>
                <a:ea typeface="华文琥珀"/>
              </a:rPr>
              <a:t>请指正！</a:t>
            </a:r>
            <a:endParaRPr b="1" lang="en-US" sz="6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副标题 2"/>
          <p:cNvSpPr/>
          <p:nvPr/>
        </p:nvSpPr>
        <p:spPr>
          <a:xfrm>
            <a:off x="900000" y="4481640"/>
            <a:ext cx="671508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2016</a:t>
            </a:r>
            <a:r>
              <a:rPr b="0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年</a:t>
            </a:r>
            <a:r>
              <a:rPr b="0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01</a:t>
            </a:r>
            <a:r>
              <a:rPr b="0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日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50560" y="836280"/>
            <a:ext cx="856908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（一）科学核心素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基础教育阶段，使学生体验科学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探究的过程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掌握与年龄相适应的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科学知识和科学方法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培养学生的科学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探究能力、思维能力、创新能力、运用科学解决实际问题、表达和交流能力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使学生形成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实事求是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科学态度、对科学与探究的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好奇心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具有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创新意识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保护环境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意识和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社会责任感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学会与人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合作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从而为他们今后学习和终身发展奠定良好的基础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矩形 1"/>
          <p:cNvSpPr/>
          <p:nvPr/>
        </p:nvSpPr>
        <p:spPr>
          <a:xfrm>
            <a:off x="0" y="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2400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（二）科学教学模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本研究中的科学教学模式是指基于经典教学模式：探究教学模 式、支架教学模式、概念转变模式、问题解决模式、传递授受模式基础上，针对小学生认知特点，进过改造、整合、创新，指向科学核心素养培养的教学模式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142560" y="981000"/>
            <a:ext cx="90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．教学模式的理论指导学科教学模式建构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华文行楷"/>
                <a:ea typeface="华文行楷"/>
              </a:rPr>
              <a:t>            </a:t>
            </a:r>
            <a:r>
              <a:rPr b="1" lang="zh-CN" sz="2800" spc="-1" strike="noStrike">
                <a:solidFill>
                  <a:srgbClr val="ff3399"/>
                </a:solidFill>
                <a:latin typeface="华文行楷"/>
                <a:ea typeface="华文行楷"/>
              </a:rPr>
              <a:t>行为主义</a:t>
            </a:r>
            <a:r>
              <a:rPr b="1" lang="en-US" sz="2800" spc="-1" strike="noStrike">
                <a:solidFill>
                  <a:srgbClr val="ff3399"/>
                </a:solidFill>
                <a:latin typeface="黑体"/>
                <a:ea typeface="华文行楷"/>
              </a:rPr>
              <a:t>——</a:t>
            </a:r>
            <a:r>
              <a:rPr b="1" lang="zh-CN" sz="2800" spc="-1" strike="noStrike">
                <a:solidFill>
                  <a:srgbClr val="ff3399"/>
                </a:solidFill>
                <a:latin typeface="华文行楷"/>
                <a:ea typeface="华文行楷"/>
              </a:rPr>
              <a:t>认知主义</a:t>
            </a:r>
            <a:r>
              <a:rPr b="1" lang="en-US" sz="2800" spc="-1" strike="noStrike">
                <a:solidFill>
                  <a:srgbClr val="ff3399"/>
                </a:solidFill>
                <a:latin typeface="黑体"/>
                <a:ea typeface="华文行楷"/>
              </a:rPr>
              <a:t>——</a:t>
            </a:r>
            <a:r>
              <a:rPr b="1" lang="zh-CN" sz="2800" spc="-1" strike="noStrike">
                <a:solidFill>
                  <a:srgbClr val="ff3399"/>
                </a:solidFill>
                <a:latin typeface="华文行楷"/>
                <a:ea typeface="华文行楷"/>
              </a:rPr>
              <a:t>建构主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信息加工——认知心理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个别化  ——个别化教学理论和人本主义心理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社会互动——社会心理学的互动理论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行为控制——行为主义心理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cc00"/>
                </a:solidFill>
                <a:latin typeface="华文行楷"/>
                <a:ea typeface="华文行楷"/>
              </a:rPr>
              <a:t>我国：二十世纪八十年代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华文行楷"/>
                <a:ea typeface="华文行楷"/>
              </a:rPr>
              <a:t>               </a:t>
            </a:r>
            <a:r>
              <a:rPr b="0" lang="zh-CN" sz="2800" spc="-1" strike="noStrike">
                <a:solidFill>
                  <a:srgbClr val="ffcc00"/>
                </a:solidFill>
                <a:latin typeface="华文行楷"/>
                <a:ea typeface="华文行楷"/>
              </a:rPr>
              <a:t>借鉴国外的教学模式理论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华文行楷"/>
                <a:ea typeface="华文行楷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图片 3" descr="C:\Users\CTPAD\AppData\Roaming\Tencent\Users\2865621088\QQ\WinTemp\RichOle\[WM](D5P31A4S12[9GBM2]E.png"/>
          <p:cNvPicPr/>
          <p:nvPr/>
        </p:nvPicPr>
        <p:blipFill>
          <a:blip r:embed="rId1"/>
          <a:stretch/>
        </p:blipFill>
        <p:spPr>
          <a:xfrm>
            <a:off x="826920" y="698400"/>
            <a:ext cx="7345440" cy="568332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4"/>
          <p:cNvSpPr/>
          <p:nvPr/>
        </p:nvSpPr>
        <p:spPr>
          <a:xfrm>
            <a:off x="468360" y="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、科学课教学模式建构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428840" y="0"/>
            <a:ext cx="625464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复习阶段模式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60847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梳理单元知识</a:t>
            </a:r>
            <a:r>
              <a:rPr b="1" lang="zh-CN" sz="1600" spc="-1" strike="noStrike">
                <a:solidFill>
                  <a:srgbClr val="ffffff"/>
                </a:solidFill>
                <a:latin typeface="Arial Black"/>
                <a:ea typeface="黑体"/>
              </a:rPr>
              <a:t>（读书、概念图、重难点讲解）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单元试卷测试</a:t>
            </a:r>
            <a:r>
              <a:rPr b="1" lang="zh-CN" sz="1600" spc="-1" strike="noStrike">
                <a:solidFill>
                  <a:srgbClr val="ffffff"/>
                </a:solidFill>
                <a:latin typeface="Arial Black"/>
                <a:ea typeface="黑体"/>
              </a:rPr>
              <a:t>（综合各类试题、练习题）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易错点巩固练习</a:t>
            </a:r>
            <a:r>
              <a:rPr b="1" lang="zh-CN" sz="1600" spc="-1" strike="noStrike">
                <a:solidFill>
                  <a:srgbClr val="ffffff"/>
                </a:solidFill>
                <a:latin typeface="Arial Black"/>
                <a:ea typeface="黑体"/>
              </a:rPr>
              <a:t>（变式、填空、选择</a:t>
            </a:r>
            <a:r>
              <a:rPr b="1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r>
              <a:rPr b="1" lang="zh-CN" sz="1600" spc="-1" strike="noStrike">
                <a:solidFill>
                  <a:srgbClr val="ffffff"/>
                </a:solidFill>
                <a:latin typeface="Arial Black"/>
                <a:ea typeface="黑体"/>
              </a:rPr>
              <a:t>）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综合测试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971640" y="2637000"/>
            <a:ext cx="360360" cy="504720"/>
          </a:xfrm>
          <a:prstGeom prst="downArrow">
            <a:avLst>
              <a:gd name="adj1" fmla="val 50000"/>
              <a:gd name="adj2" fmla="val 3501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AutoShape 7"/>
          <p:cNvSpPr/>
          <p:nvPr/>
        </p:nvSpPr>
        <p:spPr>
          <a:xfrm>
            <a:off x="971640" y="3716280"/>
            <a:ext cx="360360" cy="504720"/>
          </a:xfrm>
          <a:prstGeom prst="downArrow">
            <a:avLst>
              <a:gd name="adj1" fmla="val 50000"/>
              <a:gd name="adj2" fmla="val 3501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AutoShape 8"/>
          <p:cNvSpPr/>
          <p:nvPr/>
        </p:nvSpPr>
        <p:spPr>
          <a:xfrm>
            <a:off x="900000" y="4724280"/>
            <a:ext cx="360360" cy="505080"/>
          </a:xfrm>
          <a:prstGeom prst="downArrow">
            <a:avLst>
              <a:gd name="adj1" fmla="val 50000"/>
              <a:gd name="adj2" fmla="val 3504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AutoShape 9"/>
          <p:cNvSpPr/>
          <p:nvPr/>
        </p:nvSpPr>
        <p:spPr>
          <a:xfrm>
            <a:off x="5435640" y="2349360"/>
            <a:ext cx="576360" cy="3672000"/>
          </a:xfrm>
          <a:custGeom>
            <a:avLst/>
            <a:gdLst>
              <a:gd name="textAreaLeft" fmla="*/ 0 w 576360"/>
              <a:gd name="textAreaRight" fmla="*/ 208080 w 57636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6575760" y="3645000"/>
            <a:ext cx="1826640" cy="82548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行为主义的教学理念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操练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强化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记忆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4152240" y="5661000"/>
            <a:ext cx="980640" cy="45972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互联网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6666120" y="5300640"/>
            <a:ext cx="1643760" cy="45972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情绪认知教学理念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-324000" y="0"/>
            <a:ext cx="4427640" cy="1557360"/>
          </a:xfrm>
          <a:prstGeom prst="irregularSeal2">
            <a:avLst/>
          </a:prstGeom>
          <a:noFill/>
          <a:ln w="2232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Text Box 14"/>
          <p:cNvSpPr/>
          <p:nvPr/>
        </p:nvSpPr>
        <p:spPr>
          <a:xfrm>
            <a:off x="6084720" y="1341360"/>
            <a:ext cx="2376720" cy="581400"/>
          </a:xfrm>
          <a:prstGeom prst="rect">
            <a:avLst/>
          </a:prstGeom>
          <a:noFill/>
          <a:ln w="507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1f08"/>
                </a:solidFill>
                <a:latin typeface="Arial"/>
                <a:ea typeface="黑体"/>
              </a:rPr>
              <a:t>理念假设</a:t>
            </a:r>
            <a:r>
              <a:rPr b="1" lang="zh-CN" sz="2400" spc="-1" strike="noStrike">
                <a:solidFill>
                  <a:srgbClr val="fe1f08"/>
                </a:solidFill>
                <a:latin typeface="Arial"/>
              </a:rPr>
              <a:t>：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1908000" y="6165720"/>
            <a:ext cx="5185080" cy="459720"/>
          </a:xfrm>
          <a:prstGeom prst="rect">
            <a:avLst/>
          </a:prstGeom>
          <a:noFill/>
          <a:ln w="507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1f08"/>
                </a:solidFill>
                <a:latin typeface="Arial"/>
                <a:ea typeface="黑体"/>
              </a:rPr>
              <a:t>解决一类问题（知识的理解和掌握）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Line 16"/>
          <p:cNvSpPr/>
          <p:nvPr/>
        </p:nvSpPr>
        <p:spPr>
          <a:xfrm>
            <a:off x="1835280" y="5805360"/>
            <a:ext cx="50472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Line 18"/>
          <p:cNvSpPr/>
          <p:nvPr/>
        </p:nvSpPr>
        <p:spPr>
          <a:xfrm flipH="1">
            <a:off x="6587640" y="5805360"/>
            <a:ext cx="50508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332000" y="1341360"/>
            <a:ext cx="2376360" cy="520560"/>
          </a:xfrm>
          <a:prstGeom prst="rect">
            <a:avLst/>
          </a:prstGeom>
          <a:noFill/>
          <a:ln w="507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1f08"/>
                </a:solidFill>
                <a:latin typeface="Arial"/>
                <a:ea typeface="黑体"/>
              </a:rPr>
              <a:t>环节：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4032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一、模式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工作和生活中，总会遇到很多问题，解决这些问题的具体的方法和策略有很多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其中一些问题可以归为一类，把解决这类问题的方法、步骤、策略总结归纳抽象成一套方法论，就是模式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二、教学模式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、界定：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教学思想或教学理论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教学活动结构框架和程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3708360" y="4221000"/>
            <a:ext cx="144360" cy="1079640"/>
          </a:xfrm>
          <a:prstGeom prst="downArrow">
            <a:avLst>
              <a:gd name="adj1" fmla="val 50000"/>
              <a:gd name="adj2" fmla="val 18697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学模式是：一定理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选择教材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在教室和其他环境中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师、学生、媒介的互动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评价系统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学活动的一种计划或范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、分析几种教学模式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(1)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传递</a:t>
            </a: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授受教学模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赫尔巴特</a:t>
            </a:r>
            <a:r>
              <a:rPr b="0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明了</a:t>
            </a:r>
            <a:r>
              <a:rPr b="0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联想</a:t>
            </a:r>
            <a:r>
              <a:rPr b="0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系统</a:t>
            </a:r>
            <a:r>
              <a:rPr b="0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方法（行为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激发学习动机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复习旧课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学习新课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巩固应用</a:t>
            </a: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奥苏贝尔：有意义建构先行组织者（建构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讲解先行组织者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提出学习任务或学习材料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强化认知系统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华文行楷"/>
              </a:rPr>
              <a:t>。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为什么不在课程开始时就向学生提供理解新观点的桥梁呢？让学生深入了解结构的秘密，懂得它是如何通过进一步探究而不断呈现出来的。这样可以让他们的思维随着课程的进展而活跃起来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 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____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戴维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奥苏贝尔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02:34:35Z</dcterms:created>
  <dc:creator>Hao Jinghua</dc:creator>
  <dc:description/>
  <cp:keywords/>
  <dc:language>en-US</dc:language>
  <cp:lastModifiedBy>apple</cp:lastModifiedBy>
  <dcterms:modified xsi:type="dcterms:W3CDTF">2016-01-15T11:07:27Z</dcterms:modified>
  <cp:revision>134</cp:revision>
  <dc:subject/>
  <dc:title>一年级科学教材实验培训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