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73B6-35EB-473D-A2EA-E1A61224A1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00BD-8632-4DFD-8D02-070A5B4E95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6A1-F1B8-41A5-A729-847F0953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C5E-0714-4F83-B63C-0DD37EF2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386-A1D4-41AF-8EA1-CE893849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5ED-3630-458C-86F6-EB721896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57E-AB6E-414B-A08A-DE24B249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874-3715-4ECE-AD64-52900FC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D05-723E-4EFD-9B53-A6916B53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4B1-EAA1-41B2-9F26-B509EAE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B75-1BCD-4D4A-A3F3-EFD7BC8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A82-6B81-4795-881E-6B7A4376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601-AA05-454C-82C2-56FC3CD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96B-B798-42CC-8B3C-BA704104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97F-0588-49AE-9C70-5C60A97BFA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1500120"/>
            <a:ext cx="914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51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学科学教学网资源建设团队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吴振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2436840"/>
            <a:ext cx="9144000" cy="2071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2865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STZhongsong"/>
                <a:ea typeface="STZhongsong"/>
              </a:rPr>
              <a:t>观察月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9"/>
          <p:cNvSpPr/>
          <p:nvPr/>
        </p:nvSpPr>
        <p:spPr>
          <a:xfrm flipH="1">
            <a:off x="428760" y="484200"/>
            <a:ext cx="6643440" cy="1000080"/>
          </a:xfrm>
          <a:prstGeom prst="pie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教科版二年级上册第一单元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236000" y="388800"/>
            <a:ext cx="1527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s://timgsa.baidu.com/timg?image&amp;quality=80&amp;size=b9999_10000&amp;sec=1534749687029&amp;di=13457bc862a59849c4223dfb8dcdb370&amp;imgtype=0&amp;src=http%3A%2F%2Fimgsrc.baidu.com%2Fimage%2Fc0%253Dshijue1%252C0%252C0%252C294%252C40%2Fsign%3D521bda6481d4b31ce4319cf8efbf4d0a%2F8601a18b87d6277f86d9f31f22381f30e824fcca.jpg"/>
          <p:cNvPicPr/>
          <p:nvPr/>
        </p:nvPicPr>
        <p:blipFill>
          <a:blip r:embed="rId1"/>
          <a:srcRect l="0" t="0" r="0" b="5117"/>
          <a:stretch/>
        </p:blipFill>
        <p:spPr>
          <a:xfrm>
            <a:off x="6202440" y="4797360"/>
            <a:ext cx="2546280" cy="167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timgsa.baidu.com/timg?image&amp;quality=80&amp;size=b9999_10000&amp;sec=1534750191788&amp;di=48f29a48cb574e650adeacdf81dcb0d3&amp;imgtype=0&amp;src=http%3A%2F%2Fs11.sinaimg.cn%2Fbmiddle%2F4d78a246gd069cea823da%26690"/>
          <p:cNvPicPr/>
          <p:nvPr/>
        </p:nvPicPr>
        <p:blipFill>
          <a:blip r:embed="rId2"/>
          <a:stretch/>
        </p:blipFill>
        <p:spPr>
          <a:xfrm>
            <a:off x="3276720" y="4799160"/>
            <a:ext cx="2519280" cy="167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324000" y="4759200"/>
            <a:ext cx="2519280" cy="17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2521080" cy="174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Administrator\Application Data\Tencent\Users\173692760\QQ\WinTemp\RichOle\6[KR8C46[UBZ$7O$JB6D$HC.png"/>
          <p:cNvPicPr/>
          <p:nvPr/>
        </p:nvPicPr>
        <p:blipFill>
          <a:blip r:embed="rId5"/>
          <a:stretch/>
        </p:blipFill>
        <p:spPr>
          <a:xfrm>
            <a:off x="3276720" y="2570040"/>
            <a:ext cx="2471760" cy="174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timgsa.baidu.com/timg?image&amp;quality=80&amp;size=b9999_10000&amp;sec=1534750292157&amp;di=bcc69b3a7e118e6157a4faffdf6b3308&amp;imgtype=0&amp;src=http%3A%2F%2Fimg0.ph.126.net%2Fx9vn9idZeaHYyGyA9XnWNw%3D%3D%2F6597524964471707847.jpg"/>
          <p:cNvPicPr/>
          <p:nvPr/>
        </p:nvPicPr>
        <p:blipFill>
          <a:blip r:embed="rId6"/>
          <a:srcRect l="0" t="0" r="10063" b="0"/>
          <a:stretch/>
        </p:blipFill>
        <p:spPr>
          <a:xfrm>
            <a:off x="324000" y="2575080"/>
            <a:ext cx="2447640" cy="181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Administrator\Application Data\Tencent\Users\173692760\QQ\WinTemp\RichOle\0SII%9UOURR_PHG$IMS4YFV.png"/>
          <p:cNvPicPr/>
          <p:nvPr/>
        </p:nvPicPr>
        <p:blipFill>
          <a:blip r:embed="rId7"/>
          <a:stretch/>
        </p:blipFill>
        <p:spPr>
          <a:xfrm>
            <a:off x="6227640" y="404640"/>
            <a:ext cx="2521080" cy="1729080"/>
          </a:xfrm>
          <a:prstGeom prst="rect">
            <a:avLst/>
          </a:prstGeom>
          <a:ln w="0">
            <a:noFill/>
          </a:ln>
        </p:spPr>
      </p:pic>
      <p:sp>
        <p:nvSpPr>
          <p:cNvPr id="79" name="矩形 11"/>
          <p:cNvSpPr/>
          <p:nvPr/>
        </p:nvSpPr>
        <p:spPr>
          <a:xfrm>
            <a:off x="539640" y="40464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几幅图有什么相同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里面的月亮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250920" y="1486080"/>
            <a:ext cx="849780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们看到的月球发亮部分的形状叫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月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聚 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s://timgsa.baidu.com/timg?image&amp;quality=80&amp;size=b9999_10000&amp;sec=1534749687029&amp;di=13457bc862a59849c4223dfb8dcdb370&amp;imgtype=0&amp;src=http%3A%2F%2Fimgsrc.baidu.com%2Fimage%2Fc0%253Dshijue1%252C0%252C0%252C294%252C40%2Fsign%3D521bda6481d4b31ce4319cf8efbf4d0a%2F8601a18b87d6277f86d9f31f22381f30e824fcca.jpg"/>
          <p:cNvPicPr/>
          <p:nvPr/>
        </p:nvPicPr>
        <p:blipFill>
          <a:blip r:embed="rId1"/>
          <a:srcRect l="0" t="0" r="0" b="5117"/>
          <a:stretch/>
        </p:blipFill>
        <p:spPr>
          <a:xfrm>
            <a:off x="6202440" y="4703760"/>
            <a:ext cx="2546280" cy="167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s://timgsa.baidu.com/timg?image&amp;quality=80&amp;size=b9999_10000&amp;sec=1534750191788&amp;di=48f29a48cb574e650adeacdf81dcb0d3&amp;imgtype=0&amp;src=http%3A%2F%2Fs11.sinaimg.cn%2Fbmiddle%2F4d78a246gd069cea823da%26690"/>
          <p:cNvPicPr/>
          <p:nvPr/>
        </p:nvPicPr>
        <p:blipFill>
          <a:blip r:embed="rId2"/>
          <a:stretch/>
        </p:blipFill>
        <p:spPr>
          <a:xfrm>
            <a:off x="3276720" y="4703760"/>
            <a:ext cx="2519280" cy="1677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24000" y="4664160"/>
            <a:ext cx="2519280" cy="171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27640" y="2470320"/>
            <a:ext cx="2521080" cy="175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Administrator\Application Data\Tencent\Users\173692760\QQ\WinTemp\RichOle\6[KR8C46[UBZ$7O$JB6D$HC.png"/>
          <p:cNvPicPr/>
          <p:nvPr/>
        </p:nvPicPr>
        <p:blipFill>
          <a:blip r:embed="rId5"/>
          <a:stretch/>
        </p:blipFill>
        <p:spPr>
          <a:xfrm>
            <a:off x="3276720" y="2476440"/>
            <a:ext cx="2471760" cy="17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Administrator\Application Data\Tencent\Users\173692760\QQ\WinTemp\RichOle\0SII%9UOURR_PHG$IMS4YFV.png"/>
          <p:cNvPicPr/>
          <p:nvPr/>
        </p:nvPicPr>
        <p:blipFill>
          <a:blip r:embed="rId6"/>
          <a:stretch/>
        </p:blipFill>
        <p:spPr>
          <a:xfrm>
            <a:off x="324000" y="2470320"/>
            <a:ext cx="252072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Application Data\Tencent\Users\173692760\QQ\WinTemp\RichOle\ZZGE~6EQJL{W@KM7`~)R_~O.png"/>
          <p:cNvPicPr/>
          <p:nvPr/>
        </p:nvPicPr>
        <p:blipFill>
          <a:blip r:embed="rId7"/>
          <a:stretch/>
        </p:blipFill>
        <p:spPr>
          <a:xfrm>
            <a:off x="4140360" y="258840"/>
            <a:ext cx="280800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539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0" y="3575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华文楷体"/>
              </a:rPr>
              <a:t>观察照片，描述月相的样子和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i01picsos.sogoucdn.com/3de8065040c4bdf0"/>
          <p:cNvPicPr/>
          <p:nvPr/>
        </p:nvPicPr>
        <p:blipFill>
          <a:blip r:embed="rId2"/>
          <a:stretch/>
        </p:blipFill>
        <p:spPr>
          <a:xfrm>
            <a:off x="2195640" y="4384800"/>
            <a:ext cx="4572000" cy="24732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3132000" y="404640"/>
            <a:ext cx="5112000" cy="703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连续一周的月相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7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聚 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(Z4ZY]]0QHOV]IPYA4%$XVQ"/>
          <p:cNvPicPr/>
          <p:nvPr/>
        </p:nvPicPr>
        <p:blipFill>
          <a:blip r:embed="rId1"/>
          <a:stretch/>
        </p:blipFill>
        <p:spPr>
          <a:xfrm>
            <a:off x="971640" y="1916280"/>
            <a:ext cx="3732120" cy="324144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395280" y="573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录月相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标注 13"/>
          <p:cNvSpPr/>
          <p:nvPr/>
        </p:nvSpPr>
        <p:spPr>
          <a:xfrm>
            <a:off x="4572000" y="981000"/>
            <a:ext cx="4321080" cy="1800360"/>
          </a:xfrm>
          <a:prstGeom prst="wedgeRoundRectCallout">
            <a:avLst>
              <a:gd name="adj1" fmla="val -14254"/>
              <a:gd name="adj2" fmla="val 4957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持续观察月相的变化，我们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s://timgsa.baidu.com/timg?image&amp;quality=80&amp;size=b9999_10000&amp;sec=1534752181145&amp;di=9390e49a29c6d962e2e29ad909bacf45&amp;imgtype=0&amp;src=http%3A%2F%2Fimg.zcool.cn%2Fcommunity%2F01cd5d56ebb26c32f875a94410334c.jpg%401280w_1l_2o_100sh.jpg"/>
          <p:cNvPicPr/>
          <p:nvPr/>
        </p:nvPicPr>
        <p:blipFill>
          <a:blip r:embed="rId2"/>
          <a:stretch/>
        </p:blipFill>
        <p:spPr>
          <a:xfrm>
            <a:off x="5867280" y="2997360"/>
            <a:ext cx="2592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12720" y="1844640"/>
            <a:ext cx="3522600" cy="216072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1772640" y="4292640"/>
            <a:ext cx="1034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描阴影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757080" y="508464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把月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不亮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的部分用画斜线的方法表示阴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005440" y="1844640"/>
            <a:ext cx="3522600" cy="2160720"/>
          </a:xfrm>
          <a:prstGeom prst="rect">
            <a:avLst/>
          </a:prstGeom>
          <a:ln w="0">
            <a:noFill/>
          </a:ln>
        </p:spPr>
      </p:pic>
      <p:sp>
        <p:nvSpPr>
          <p:cNvPr id="104" name="矩形 9"/>
          <p:cNvSpPr/>
          <p:nvPr/>
        </p:nvSpPr>
        <p:spPr>
          <a:xfrm>
            <a:off x="6013440" y="4221000"/>
            <a:ext cx="16556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ahoma"/>
              </a:rPr>
              <a:t>剪纸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932360" y="508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根据月相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白色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纸片，把剪好的白色纸片粘贴在黑色纸片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3276720" y="549360"/>
            <a:ext cx="4248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记录月相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59280" y="115920"/>
            <a:ext cx="5500440" cy="67420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5"/>
          <p:cNvSpPr/>
          <p:nvPr/>
        </p:nvSpPr>
        <p:spPr>
          <a:xfrm>
            <a:off x="324000" y="1773360"/>
            <a:ext cx="2519280" cy="1373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学生活动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STZhongsong"/>
                <a:ea typeface="STZhongsong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探 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059280" y="115920"/>
            <a:ext cx="5500440" cy="6742080"/>
          </a:xfrm>
          <a:prstGeom prst="rect">
            <a:avLst/>
          </a:prstGeom>
          <a:ln w="0">
            <a:noFill/>
          </a:ln>
        </p:spPr>
      </p:pic>
      <p:sp>
        <p:nvSpPr>
          <p:cNvPr id="112" name="矩形 6"/>
          <p:cNvSpPr/>
          <p:nvPr/>
        </p:nvSpPr>
        <p:spPr>
          <a:xfrm>
            <a:off x="179280" y="1484280"/>
            <a:ext cx="28800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画法：先用线条区分明亮和不明亮的部分，再将不明亮的部分用画上斜线或涂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5724360" y="981000"/>
            <a:ext cx="2376720" cy="43200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标注 5"/>
          <p:cNvSpPr/>
          <p:nvPr/>
        </p:nvSpPr>
        <p:spPr>
          <a:xfrm>
            <a:off x="468360" y="4292640"/>
            <a:ext cx="2232000" cy="2089080"/>
          </a:xfrm>
          <a:prstGeom prst="wedgeRoundRectCallout">
            <a:avLst>
              <a:gd name="adj1" fmla="val 82550"/>
              <a:gd name="adj2" fmla="val -1647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7"/>
          <p:cNvSpPr/>
          <p:nvPr/>
        </p:nvSpPr>
        <p:spPr>
          <a:xfrm>
            <a:off x="900000" y="4508640"/>
            <a:ext cx="1224000" cy="122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9"/>
          <p:cNvSpPr/>
          <p:nvPr/>
        </p:nvSpPr>
        <p:spPr>
          <a:xfrm>
            <a:off x="826920" y="6165720"/>
            <a:ext cx="1368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新月形 13"/>
          <p:cNvSpPr/>
          <p:nvPr/>
        </p:nvSpPr>
        <p:spPr>
          <a:xfrm>
            <a:off x="900000" y="4508640"/>
            <a:ext cx="57636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171" y="1568"/>
                  <a:pt x="8741" y="5080"/>
                  <a:pt x="8741" y="10800"/>
                </a:cubicBezTo>
                <a:cubicBezTo>
                  <a:pt x="8741" y="16520"/>
                  <a:pt x="15171" y="200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1042920" y="5805360"/>
            <a:ext cx="11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7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 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468360" y="1444680"/>
            <a:ext cx="828180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同夜晚的月相相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连续观察，月相是怎样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s://i01picsos.sogoucdn.com/3de8065040c4bdf0"/>
          <p:cNvPicPr/>
          <p:nvPr/>
        </p:nvPicPr>
        <p:blipFill>
          <a:blip r:embed="rId1"/>
          <a:stretch/>
        </p:blipFill>
        <p:spPr>
          <a:xfrm>
            <a:off x="1763640" y="3429000"/>
            <a:ext cx="5856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rcRect l="0" t="11250" r="0" b="4990"/>
          <a:stretch/>
        </p:blipFill>
        <p:spPr>
          <a:xfrm>
            <a:off x="4211640" y="333360"/>
            <a:ext cx="4105440" cy="61117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 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8360" y="1773360"/>
            <a:ext cx="3095640" cy="70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九月份月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468360" y="3213000"/>
            <a:ext cx="316692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连续观察，月相是怎样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rcRect l="0" t="11250" r="0" b="4990"/>
          <a:stretch/>
        </p:blipFill>
        <p:spPr>
          <a:xfrm>
            <a:off x="4211640" y="333360"/>
            <a:ext cx="4105440" cy="6111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250920" y="260280"/>
            <a:ext cx="2089080" cy="764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 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68360" y="1773360"/>
            <a:ext cx="3095640" cy="70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九月份月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s://imgsa.baidu.com/baike/pic/item/c8177f3e6709c93d67d4a56c963df8dcd1005402.jpg"/>
          <p:cNvPicPr/>
          <p:nvPr/>
        </p:nvPicPr>
        <p:blipFill>
          <a:blip r:embed="rId2"/>
          <a:stretch/>
        </p:blipFill>
        <p:spPr>
          <a:xfrm>
            <a:off x="468360" y="3068640"/>
            <a:ext cx="314640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3024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s://timgsa.baidu.com/timg?image&amp;quality=80&amp;size=b9999_10000&amp;sec=1534740976696&amp;di=ba5a9d83d13981bc301ba32a7f488c2e&amp;imgtype=0&amp;src=http%3A%2F%2Fcdnimg103.lizhi.fm%2Faudio_cover%2F2015%2F08%2F17%2F22240673441801223_580x580.jpg"/>
          <p:cNvPicPr/>
          <p:nvPr/>
        </p:nvPicPr>
        <p:blipFill>
          <a:blip r:embed="rId1"/>
          <a:srcRect l="6818" t="0" r="2903" b="0"/>
          <a:stretch/>
        </p:blipFill>
        <p:spPr>
          <a:xfrm>
            <a:off x="0" y="-1440"/>
            <a:ext cx="644364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1111320" y="2852640"/>
            <a:ext cx="199692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古朗月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Arial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Arial"/>
              </a:rPr>
              <a:t>唐</a:t>
            </a:r>
            <a:r>
              <a:rPr b="0" lang="en-US" sz="1800" spc="-1" strike="noStrike">
                <a:solidFill>
                  <a:srgbClr val="333333"/>
                </a:solidFill>
                <a:latin typeface="宋体"/>
                <a:ea typeface="Arial"/>
              </a:rPr>
              <a:t>·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Arial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小时不识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呼作白玉盘。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又疑瑶台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Arial"/>
              </a:rPr>
              <a:t>飞在青云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851280" y="33336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月亮，你知道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想了解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2"/>
          <p:cNvSpPr/>
          <p:nvPr/>
        </p:nvSpPr>
        <p:spPr>
          <a:xfrm>
            <a:off x="2916360" y="404640"/>
            <a:ext cx="493236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STZhongsong"/>
                <a:ea typeface="STZhongsong"/>
              </a:rPr>
              <a:t>郑重申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57240" y="404640"/>
            <a:ext cx="1527120" cy="107964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468360" y="1341360"/>
            <a:ext cx="8424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课件和配套教案版权归小学科学教学网资源建设团队所有，供全国小学科学教师无偿使用。其他网站或个人想要转载，请与资源建设团队联系；如果其他网站或个人用于赢利，我们保留追究的权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Documents and Settings\Administrator\Application Data\Tencent\Users\173692760\QQ\WinTemp\RichOle\0SII%9UOURR_PHG$IMS4YFV.png"/>
          <p:cNvPicPr/>
          <p:nvPr/>
        </p:nvPicPr>
        <p:blipFill>
          <a:blip r:embed="rId1"/>
          <a:stretch/>
        </p:blipFill>
        <p:spPr>
          <a:xfrm>
            <a:off x="611280" y="1052640"/>
            <a:ext cx="79214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timgsa.baidu.com/timg?image&amp;quality=80&amp;size=b9999_10000&amp;sec=1534750292157&amp;di=bcc69b3a7e118e6157a4faffdf6b3308&amp;imgtype=0&amp;src=http%3A%2F%2Fimg0.ph.126.net%2Fx9vn9idZeaHYyGyA9XnWNw%3D%3D%2F6597524964471707847.jpg"/>
          <p:cNvPicPr/>
          <p:nvPr/>
        </p:nvPicPr>
        <p:blipFill>
          <a:blip r:embed="rId1"/>
          <a:srcRect l="0" t="0" r="10060" b="0"/>
          <a:stretch/>
        </p:blipFill>
        <p:spPr>
          <a:xfrm>
            <a:off x="900000" y="1050840"/>
            <a:ext cx="7344000" cy="543420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Administrator\Application Data\Tencent\Users\173692760\QQ\WinTemp\RichOle\6[KR8C46[UBZ$7O$JB6D$HC.png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54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s://timgsa.baidu.com/timg?image&amp;quality=80&amp;size=b9999_10000&amp;sec=1534750191788&amp;di=48f29a48cb574e650adeacdf81dcb0d3&amp;imgtype=0&amp;src=http%3A%2F%2Fs11.sinaimg.cn%2Fbmiddle%2F4d78a246gd069cea823da%26690"/>
          <p:cNvPicPr/>
          <p:nvPr/>
        </p:nvPicPr>
        <p:blipFill>
          <a:blip r:embed="rId1"/>
          <a:stretch/>
        </p:blipFill>
        <p:spPr>
          <a:xfrm>
            <a:off x="596880" y="1125360"/>
            <a:ext cx="80074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s://timgsa.baidu.com/timg?image&amp;quality=80&amp;size=b9999_10000&amp;sec=1534749687029&amp;di=13457bc862a59849c4223dfb8dcdb370&amp;imgtype=0&amp;src=http%3A%2F%2Fimgsrc.baidu.com%2Fimage%2Fc0%253Dshijue1%252C0%252C0%252C294%252C40%2Fsign%3D521bda6481d4b31ce4319cf8efbf4d0a%2F8601a18b87d6277f86d9f31f22381f30e824fcca.jpg"/>
          <p:cNvPicPr/>
          <p:nvPr/>
        </p:nvPicPr>
        <p:blipFill>
          <a:blip r:embed="rId1"/>
          <a:srcRect l="0" t="0" r="0" b="5117"/>
          <a:stretch/>
        </p:blipFill>
        <p:spPr>
          <a:xfrm>
            <a:off x="360360" y="1197000"/>
            <a:ext cx="8388360" cy="5305320"/>
          </a:xfrm>
          <a:prstGeom prst="rect">
            <a:avLst/>
          </a:prstGeom>
          <a:ln w="0">
            <a:noFill/>
          </a:ln>
        </p:spPr>
      </p:pic>
      <p:sp>
        <p:nvSpPr>
          <p:cNvPr id="68" name="矩形 4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华文楷体"/>
              </a:rPr>
              <a:t>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月球是个球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imgsa.baidu.com/baike/pic/item/c8177f3e6709c93d67d4a56c963df8dcd1005402.jpg"/>
          <p:cNvPicPr/>
          <p:nvPr/>
        </p:nvPicPr>
        <p:blipFill>
          <a:blip r:embed="rId1"/>
          <a:stretch/>
        </p:blipFill>
        <p:spPr>
          <a:xfrm>
            <a:off x="2516040" y="2120760"/>
            <a:ext cx="3927600" cy="368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2516040" y="2125800"/>
            <a:ext cx="38894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6T08:46:27Z</dcterms:created>
  <dc:creator>Administrator</dc:creator>
  <dc:description/>
  <dc:language>en-US</dc:language>
  <cp:lastModifiedBy>xbany</cp:lastModifiedBy>
  <dcterms:modified xsi:type="dcterms:W3CDTF">2018-09-02T09:02:04Z</dcterms:modified>
  <cp:revision>333</cp:revision>
  <dc:subject/>
  <dc:title>幻灯片 1</dc:title>
</cp:coreProperties>
</file>