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7.wmf" ContentType="image/x-wmf"/>
  <Override PartName="/ppt/media/image9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30.png" ContentType="image/png"/>
  <Override PartName="/ppt/media/image28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5.png" ContentType="image/png"/>
  <Override PartName="/ppt/media/image16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A06-9160-4EF9-9FB4-F546DB2D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D8C-8E11-4219-8AF2-D705F0A7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B872-133C-404F-987B-33D60DB6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46888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3320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0492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46888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63320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4754-9DEE-4913-AE2E-F76A8818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6960-18EB-4ABE-B0B6-BDE2B419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09D9-B12E-4B66-AA63-448ADC9F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296B-73C8-4EBD-9ED1-4F5BFCAB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09B0-2E5A-4F37-8E53-256A561F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F0AE-F9C9-4CF9-BF80-8ABBB8DD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04920" y="44193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E624-2A96-45DE-B6D6-A6EA9DA5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8AA7-4D79-4DED-BF44-349A8291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443-565D-4E5B-9E8A-4617E281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2DE4-E828-4039-B84A-653D0BE2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C6C8-603C-4887-9831-3CD96E9B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94CF-C9E3-4F0F-97E7-7EB5FBBE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EC6A-D9C0-4550-9408-5493B110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46888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33200" y="571500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0492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46888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4633200" y="5914080"/>
            <a:ext cx="206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1506-F1C1-41BD-BC26-E87EBA9F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102-A739-4A94-AECD-587739AA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CDE-11F8-477B-9DF6-6D485EF2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C5C7-8EDA-44FE-A91F-281CCB30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04920" y="441936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800E-F69B-44D8-A886-19F2E48E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43F9-D665-4CE2-B09A-AA96CDED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84880" y="591408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3524-2688-4674-9F6A-DBEDC2F8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84880" y="5715000"/>
            <a:ext cx="31233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5914080"/>
            <a:ext cx="64008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F9DE-4945-44E6-B3AD-ADFE489D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FE65-3C29-4B17-99DE-ED47918A3CFE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981920" y="5916600"/>
            <a:ext cx="828720" cy="1587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161200" y="5608800"/>
            <a:ext cx="430200" cy="4633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8102520" y="5850000"/>
            <a:ext cx="173160" cy="1620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8469360" y="596916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8562960" y="5943600"/>
            <a:ext cx="309600" cy="24120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80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efef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54" name="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440" bIns="-1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9080" bIns="19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5760" bIns="-5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8280" bIns="8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7000" bIns="-27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6920" bIns="-169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240" bIns="-12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9960" bIns="39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040" bIns="32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2960" bIns="12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3840" bIns="33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0" bIns="3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1400" bIns="414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1760" bIns="41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6120" bIns="-61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3760" bIns="-237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7000" bIns="27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9000" bIns="-90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480" bIns="6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720" bIns="9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680" bIns="-4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320" bIns="-43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6640" bIns="-266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3680" bIns="-136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40" bIns="32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8720" bIns="-1872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800" bIns="1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880" bIns="-28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0160" bIns="-201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4840" bIns="-24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" bIns="6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7280" bIns="-172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480" bIns="-154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5840" bIns="-158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600" bIns="-216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1960" bIns="-219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dt" idx="4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5"/>
          </p:nvPr>
        </p:nvSpPr>
        <p:spPr>
          <a:xfrm>
            <a:off x="6705720" y="6476760"/>
            <a:ext cx="228600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6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2704-62A3-4176-84A0-D487E7147146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4"/>
          <p:cNvSpPr>
            <a:spLocks noGrp="1"/>
          </p:cNvSpPr>
          <p:nvPr>
            <p:ph type="title"/>
          </p:nvPr>
        </p:nvSpPr>
        <p:spPr>
          <a:xfrm>
            <a:off x="304920" y="4419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042760" y="152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9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0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1"/>
          <a:stretch/>
        </p:blipFill>
        <p:spPr>
          <a:xfrm>
            <a:off x="10204560" y="196848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8080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ycjq@126.com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oleObject" Target="../embeddings/oleObject2.bin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3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3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3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3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3.png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3.png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3.png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3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3.png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3.png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3.png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3.png"/><Relationship Id="rId4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9.png"/><Relationship Id="rId3" Type="http://schemas.openxmlformats.org/officeDocument/2006/relationships/image" Target="../media/image35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078280" y="4324680"/>
            <a:ext cx="5215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黑体"/>
              </a:rPr>
              <a:t>丽水市莲都区大洋路学校    陈建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黑体"/>
              </a:rPr>
              <a:t>QQ:173692760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邮箱：</a:t>
            </a:r>
            <a:r>
              <a:rPr b="0" lang="en-US" sz="2400" spc="-1" strike="noStrike" u="sng">
                <a:solidFill>
                  <a:srgbClr val="f77a1d"/>
                </a:solidFill>
                <a:uFillTx/>
                <a:latin typeface="Arial"/>
                <a:ea typeface="黑体"/>
                <a:hlinkClick r:id="rId1"/>
              </a:rPr>
              <a:t>jycjq@126.com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（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年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黑体"/>
              </a:rPr>
              <a:t>7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月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黑体"/>
              </a:rPr>
              <a:t>17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黑体"/>
              </a:rPr>
              <a:t>日 金华浙师大培训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11280" y="1341360"/>
            <a:ext cx="7993080" cy="2303640"/>
            <a:chOff x="611280" y="1341360"/>
            <a:chExt cx="7993080" cy="2303640"/>
          </a:xfrm>
        </p:grpSpPr>
        <p:sp>
          <p:nvSpPr>
            <p:cNvPr id="215" name=""/>
            <p:cNvSpPr/>
            <p:nvPr/>
          </p:nvSpPr>
          <p:spPr>
            <a:xfrm>
              <a:off x="2297160" y="1556280"/>
              <a:ext cx="4525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80808"/>
                  </a:solidFill>
                  <a:latin typeface="Arial"/>
                  <a:ea typeface="黑体"/>
                </a:rPr>
                <a:t>开启探究之门   放飞思维之翅</a:t>
              </a:r>
              <a:r>
                <a:rPr b="1" lang="zh-CN" sz="4400" spc="-1" strike="noStrike">
                  <a:solidFill>
                    <a:srgbClr val="080808"/>
                  </a:solidFill>
                  <a:latin typeface="Arial"/>
                  <a:ea typeface="黑体"/>
                </a:rPr>
                <a:t>  </a:t>
              </a:r>
              <a:endParaRPr b="0" lang="en-US" sz="4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47680" y="2851920"/>
              <a:ext cx="357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0808"/>
                  </a:solidFill>
                  <a:latin typeface="宋体"/>
                  <a:ea typeface="宋体"/>
                </a:rPr>
                <a:t>——</a:t>
              </a:r>
              <a:r>
                <a:rPr b="1" lang="en-US" sz="3200" spc="-1" strike="noStrike">
                  <a:solidFill>
                    <a:srgbClr val="080808"/>
                  </a:solidFill>
                  <a:latin typeface="宋体"/>
                  <a:ea typeface="宋体"/>
                </a:rPr>
                <a:t>《</a:t>
              </a:r>
              <a:r>
                <a:rPr b="1" lang="zh-CN" sz="3200" spc="-1" strike="noStrike">
                  <a:solidFill>
                    <a:srgbClr val="080808"/>
                  </a:solidFill>
                  <a:latin typeface="宋体"/>
                  <a:ea typeface="宋体"/>
                </a:rPr>
                <a:t>昼夜交替现象</a:t>
              </a:r>
              <a:r>
                <a:rPr b="0" lang="zh-CN" sz="1200" spc="-1" strike="noStrike">
                  <a:solidFill>
                    <a:srgbClr val="080808"/>
                  </a:solidFill>
                  <a:latin typeface="宋体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080808"/>
                  </a:solidFill>
                  <a:latin typeface="宋体"/>
                  <a:ea typeface="宋体"/>
                </a:rPr>
                <a:t>》</a:t>
              </a:r>
              <a:r>
                <a:rPr b="1" lang="zh-CN" sz="3200" spc="-1" strike="noStrike">
                  <a:solidFill>
                    <a:srgbClr val="080808"/>
                  </a:solidFill>
                  <a:latin typeface="宋体"/>
                  <a:ea typeface="宋体"/>
                </a:rPr>
                <a:t>说课</a:t>
              </a:r>
              <a:endParaRPr b="0" lang="en-US" sz="32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1280" y="1341360"/>
              <a:ext cx="7993080" cy="2303640"/>
            </a:xfrm>
            <a:prstGeom prst="roundRect">
              <a:avLst>
                <a:gd name="adj" fmla="val 16667"/>
              </a:avLst>
            </a:prstGeom>
            <a:noFill/>
            <a:ln cap="rnd" w="9360">
              <a:solidFill>
                <a:srgbClr val="080808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383480" y="332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三、教学准备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14097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、学生分组材料：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地球仪、及时贴五角星、手电筒、实验记录表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、教师演示材料：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多媒体课件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265560" y="2914560"/>
            <a:ext cx="2098440" cy="208908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1052640" y="2930400"/>
            <a:ext cx="1935000" cy="19242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653080" y="2882880"/>
            <a:ext cx="2232000" cy="2851200"/>
          </a:xfrm>
          <a:custGeom>
            <a:avLst/>
            <a:gdLst>
              <a:gd name="textAreaLeft" fmla="*/ 108720 w 2232000"/>
              <a:gd name="textAreaRight" fmla="*/ 2123280 w 2232000"/>
              <a:gd name="textAreaTop" fmla="*/ 108720 h 2851200"/>
              <a:gd name="textAreaBottom" fmla="*/ 2742480 h 2851200"/>
            </a:gdLst>
            <a:ahLst/>
            <a:rect l="textAreaLeft" t="textAreaTop" r="textAreaRight" b="textAreaBottom"/>
            <a:pathLst>
              <a:path w="21600" h="27591">
                <a:moveTo>
                  <a:pt x="3600" y="0"/>
                </a:moveTo>
                <a:arcTo wR="3600" hR="3600" stAng="16200000" swAng="-5400000"/>
                <a:lnTo>
                  <a:pt x="0" y="23991"/>
                </a:lnTo>
                <a:arcTo wR="3600" hR="3600" stAng="10800000" swAng="-5400000"/>
                <a:lnTo>
                  <a:pt x="18000" y="275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50000">
                <a:srgbClr val="fefefe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64000" y="364500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信息技术演示动态画面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03280" y="3500280"/>
            <a:ext cx="131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地球仪和电筒做模拟实验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9080" y="3243240"/>
            <a:ext cx="17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让学生形象直观地观看到昼夜交替现象，化抽象为形象，突破学生思维节点，顺利地走出困惑与不解。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826920" y="4908600"/>
            <a:ext cx="4627800" cy="958680"/>
            <a:chOff x="826920" y="4908600"/>
            <a:chExt cx="4627800" cy="958680"/>
          </a:xfrm>
        </p:grpSpPr>
        <p:sp>
          <p:nvSpPr>
            <p:cNvPr id="312" name=""/>
            <p:cNvSpPr/>
            <p:nvPr/>
          </p:nvSpPr>
          <p:spPr>
            <a:xfrm>
              <a:off x="826920" y="5300640"/>
              <a:ext cx="4627800" cy="54000"/>
            </a:xfrm>
            <a:prstGeom prst="line">
              <a:avLst/>
            </a:prstGeom>
            <a:ln w="93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03640" y="4908600"/>
              <a:ext cx="0" cy="958680"/>
            </a:xfrm>
            <a:prstGeom prst="line">
              <a:avLst/>
            </a:prstGeom>
            <a:ln w="9360">
              <a:solidFill>
                <a:srgbClr val="08080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266840" y="5430960"/>
            <a:ext cx="157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学生实验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70120" y="543096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  <a:ea typeface="宋体"/>
              </a:rPr>
              <a:t>教师演示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456560" y="2595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四、教学流程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79280" y="1413000"/>
            <a:ext cx="8748720" cy="4103640"/>
            <a:chOff x="179280" y="1413000"/>
            <a:chExt cx="8748720" cy="4103640"/>
          </a:xfrm>
        </p:grpSpPr>
        <p:sp>
          <p:nvSpPr>
            <p:cNvPr id="318" name=""/>
            <p:cNvSpPr/>
            <p:nvPr/>
          </p:nvSpPr>
          <p:spPr>
            <a:xfrm>
              <a:off x="468360" y="1700280"/>
              <a:ext cx="80643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设计意图：</a:t>
              </a: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本课一开始就采用</a:t>
              </a:r>
              <a:r>
                <a:rPr b="1" lang="zh-CN" sz="2800" spc="-1" strike="noStrike">
                  <a:solidFill>
                    <a:srgbClr val="f01020"/>
                  </a:solidFill>
                  <a:latin typeface="Arial"/>
                  <a:ea typeface="宋体"/>
                </a:rPr>
                <a:t>谈话的学习方法</a:t>
              </a:r>
              <a:r>
                <a:rPr b="1" lang="zh-CN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，引发学生思考“为什么会有昼夜交替的现象产生”，接着让学生发表种种</a:t>
              </a:r>
              <a:r>
                <a:rPr b="1" lang="zh-CN" sz="2800" spc="-1" strike="noStrike">
                  <a:solidFill>
                    <a:srgbClr val="f01020"/>
                  </a:solidFill>
                  <a:latin typeface="Arial"/>
                  <a:ea typeface="宋体"/>
                </a:rPr>
                <a:t>猜测</a:t>
              </a:r>
              <a:r>
                <a:rPr b="1" lang="zh-CN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，这就涉及到相对运动的知识，但学生对此是陌生的，所以设计模拟实验，利用</a:t>
              </a:r>
              <a:r>
                <a:rPr b="1" lang="zh-CN" sz="2800" spc="-1" strike="noStrike">
                  <a:solidFill>
                    <a:srgbClr val="f01020"/>
                  </a:solidFill>
                  <a:latin typeface="Arial"/>
                  <a:ea typeface="宋体"/>
                </a:rPr>
                <a:t>小组合作模拟实验、汇报展示</a:t>
              </a:r>
              <a:r>
                <a:rPr b="1" lang="zh-CN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，充分发挥学生的主动性、积极性，组织学生进行协作学习活动，让学生体验科学探究过程的喜悦与乐趣。</a:t>
              </a: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9280" y="1413000"/>
              <a:ext cx="8748720" cy="4103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39640" y="333360"/>
            <a:ext cx="8207280" cy="6048000"/>
            <a:chOff x="539640" y="333360"/>
            <a:chExt cx="8207280" cy="6048000"/>
          </a:xfrm>
        </p:grpSpPr>
        <p:sp>
          <p:nvSpPr>
            <p:cNvPr id="335" name=""/>
            <p:cNvSpPr/>
            <p:nvPr/>
          </p:nvSpPr>
          <p:spPr>
            <a:xfrm>
              <a:off x="3563640" y="333360"/>
              <a:ext cx="2160720" cy="647640"/>
            </a:xfrm>
            <a:prstGeom prst="rect">
              <a:avLst/>
            </a:prstGeom>
            <a:solidFill>
              <a:srgbClr val="4ab1e4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谈话导入</a:t>
              </a: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9640" y="1414440"/>
              <a:ext cx="3672000" cy="936000"/>
            </a:xfrm>
            <a:prstGeom prst="ellipse">
              <a:avLst/>
            </a:prstGeom>
            <a:solidFill>
              <a:srgbClr val="4ab1e4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学生假设，画示意图</a:t>
              </a: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74920" y="1414440"/>
              <a:ext cx="3672000" cy="936000"/>
            </a:xfrm>
            <a:prstGeom prst="ellipse">
              <a:avLst/>
            </a:prstGeom>
            <a:solidFill>
              <a:srgbClr val="4ab1e4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教师整理课件演示</a:t>
              </a: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98560" y="2638080"/>
              <a:ext cx="3456000" cy="647640"/>
            </a:xfrm>
            <a:prstGeom prst="rect">
              <a:avLst/>
            </a:prstGeom>
            <a:solidFill>
              <a:srgbClr val="4ab1e4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出示材料 明确要求</a:t>
              </a: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2560" y="3646440"/>
              <a:ext cx="2808360" cy="791640"/>
            </a:xfrm>
            <a:prstGeom prst="roundRect">
              <a:avLst>
                <a:gd name="adj" fmla="val 16667"/>
              </a:avLst>
            </a:prstGeom>
            <a:solidFill>
              <a:srgbClr val="4ab1e4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学生小组实验</a:t>
              </a: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90920" y="3573360"/>
              <a:ext cx="2808360" cy="791640"/>
            </a:xfrm>
            <a:prstGeom prst="roundRect">
              <a:avLst>
                <a:gd name="adj" fmla="val 16667"/>
              </a:avLst>
            </a:prstGeom>
            <a:solidFill>
              <a:srgbClr val="4ab1e4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教师巡回指导</a:t>
              </a: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19280" y="4652640"/>
              <a:ext cx="2305080" cy="647640"/>
            </a:xfrm>
            <a:prstGeom prst="rect">
              <a:avLst/>
            </a:prstGeom>
            <a:solidFill>
              <a:srgbClr val="4ab1e4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汇报交流</a:t>
              </a: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72000" y="1125360"/>
              <a:ext cx="0" cy="647280"/>
            </a:xfrm>
            <a:prstGeom prst="line">
              <a:avLst/>
            </a:prstGeom>
            <a:ln w="507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72000" y="3357360"/>
              <a:ext cx="0" cy="649080"/>
            </a:xfrm>
            <a:prstGeom prst="line">
              <a:avLst/>
            </a:prstGeom>
            <a:ln w="507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211640" y="1846080"/>
              <a:ext cx="863280" cy="0"/>
            </a:xfrm>
            <a:prstGeom prst="line">
              <a:avLst/>
            </a:prstGeom>
            <a:ln w="507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563640" y="4078080"/>
              <a:ext cx="1656000" cy="0"/>
            </a:xfrm>
            <a:prstGeom prst="line">
              <a:avLst/>
            </a:prstGeom>
            <a:ln w="507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2000" y="4294080"/>
              <a:ext cx="0" cy="360000"/>
            </a:xfrm>
            <a:prstGeom prst="line">
              <a:avLst/>
            </a:prstGeom>
            <a:ln w="507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72000" y="2062080"/>
              <a:ext cx="0" cy="502920"/>
            </a:xfrm>
            <a:prstGeom prst="line">
              <a:avLst/>
            </a:prstGeom>
            <a:ln w="507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19280" y="5733720"/>
              <a:ext cx="2303640" cy="647640"/>
            </a:xfrm>
            <a:prstGeom prst="rect">
              <a:avLst/>
            </a:prstGeom>
            <a:solidFill>
              <a:srgbClr val="4ab1e4"/>
            </a:solidFill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总结拓展</a:t>
              </a: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72000" y="5373360"/>
              <a:ext cx="0" cy="360000"/>
            </a:xfrm>
            <a:prstGeom prst="line">
              <a:avLst/>
            </a:prstGeom>
            <a:ln w="50760">
              <a:solidFill>
                <a:srgbClr val="080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828360" y="333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1020"/>
                </a:solidFill>
                <a:latin typeface="Arial"/>
                <a:ea typeface="宋体"/>
              </a:rPr>
              <a:t>教学流程简图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56560" y="2595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四、教学流程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526400" y="126828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、谈话导入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2205000"/>
            <a:ext cx="785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师：每天早上，太阳从东边冉冉升起。每天晚上，太阳又从西边落下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……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就这样，每天和黑夜交替出现。你们如何解释这一现象呢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学生对昼夜现象自由发表自己的观点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11280" y="48632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1020"/>
                </a:solidFill>
                <a:latin typeface="Arial"/>
                <a:ea typeface="宋体"/>
              </a:rPr>
              <a:t>让学生对昼夜交替现象提出自己的观点，教师可以从中了解学生的初始想法，关注学生是否从地球和太阳运动的角度来提出昼夜现象的假说。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456560" y="2595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四、教学流程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526400" y="11970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、学生猜想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8360" y="234936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学生一开始可能只会提出地球自转形成昼夜现象的观点。教师可启发学生，还有没有其他的可能性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教科书列举的四种情况都可能发生昼夜交替现象。这些举例目的是打开学生的思路，引导学生从地球和太阳的相对运动来解释昼夜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5867280" y="60958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3" action="ppaction://hlinksldjump"/>
              </a:rPr>
              <a:t>D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4" action="ppaction://hlinksldjump"/>
              </a:rPr>
              <a:t>T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5" action="ppaction://hlinksldjump"/>
              </a:rPr>
              <a:t>Z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6" action="ppaction://hlinksldjump"/>
              </a:rPr>
              <a:t>ZG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7" action="ppaction://hlinksldjump"/>
              </a:rPr>
              <a:t>Q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389" name="FOfficeDoc1"/>
          <p:cNvGraphicFramePr/>
          <p:nvPr/>
        </p:nvGraphicFramePr>
        <p:xfrm>
          <a:off x="1295280" y="838080"/>
          <a:ext cx="6553440" cy="4765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90" name="FOfficeDoc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95280" y="838080"/>
                    <a:ext cx="655344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2895480" y="5715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太阳不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地球绕着太阳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5867280" y="62485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1" action="ppaction://hlinksldjump"/>
              </a:rPr>
              <a:t>D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</a:t>
            </a:r>
            <a:r>
              <a:rPr b="0" lang="en-US" sz="2400" spc="-1" strike="noStrike" u="sng">
                <a:solidFill>
                  <a:srgbClr val="f77a1d"/>
                </a:solidFill>
                <a:uFillTx/>
                <a:latin typeface="Times New Roman"/>
                <a:ea typeface="宋体"/>
                <a:hlinkClick r:id="rId2" action="ppaction://hlinksldjump"/>
              </a:rPr>
              <a:t>T</a:t>
            </a: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Z  ZG  Q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393" name="FOfficeDoc1"/>
          <p:cNvGraphicFramePr/>
          <p:nvPr/>
        </p:nvGraphicFramePr>
        <p:xfrm>
          <a:off x="1295280" y="762120"/>
          <a:ext cx="6629400" cy="482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" name="FOfficeDoc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762120"/>
                    <a:ext cx="662940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2895480" y="5715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地球不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太阳绕着地球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5867280" y="60958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  T  Z  ZG  Q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397" name="FOfficeDoc1"/>
          <p:cNvGraphicFramePr/>
          <p:nvPr/>
        </p:nvGraphicFramePr>
        <p:xfrm>
          <a:off x="1371600" y="762120"/>
          <a:ext cx="655308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762120"/>
                    <a:ext cx="655308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"/>
          <p:cNvSpPr/>
          <p:nvPr/>
        </p:nvSpPr>
        <p:spPr>
          <a:xfrm>
            <a:off x="2971800" y="56386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太阳不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地球自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867280" y="60958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D  T  Z  ZG  Q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401" name="FOfficeDoc1"/>
          <p:cNvGraphicFramePr/>
          <p:nvPr/>
        </p:nvGraphicFramePr>
        <p:xfrm>
          <a:off x="1371600" y="685800"/>
          <a:ext cx="6553080" cy="49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685800"/>
                    <a:ext cx="6553080" cy="49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3048120" y="5715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地球绕着太阳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同时自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FOfficeDoc1"/>
          <p:cNvGraphicFramePr/>
          <p:nvPr/>
        </p:nvGraphicFramePr>
        <p:xfrm>
          <a:off x="304920" y="304920"/>
          <a:ext cx="3581280" cy="26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3581280" cy="26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FOfficeDoc2"/>
          <p:cNvGraphicFramePr/>
          <p:nvPr/>
        </p:nvGraphicFramePr>
        <p:xfrm>
          <a:off x="4707000" y="314280"/>
          <a:ext cx="3674880" cy="267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FOfficeDoc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7000" y="314280"/>
                    <a:ext cx="3674880" cy="26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FOfficeDoc3"/>
          <p:cNvGraphicFramePr/>
          <p:nvPr/>
        </p:nvGraphicFramePr>
        <p:xfrm>
          <a:off x="363600" y="3657600"/>
          <a:ext cx="3522600" cy="258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FOfficeDoc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600" y="3657600"/>
                    <a:ext cx="3522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FOfficeDoc4"/>
          <p:cNvGraphicFramePr/>
          <p:nvPr/>
        </p:nvGraphicFramePr>
        <p:xfrm>
          <a:off x="4707000" y="3676680"/>
          <a:ext cx="3598920" cy="255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1" name="FOfficeDoc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07000" y="3676680"/>
                    <a:ext cx="359892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228600" y="30481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太阳不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地球绕着太阳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648320" y="30481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地球不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太阳绕着地球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6248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太阳不动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地球自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724280" y="6248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地球绕着太阳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同时自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348000" y="4078440"/>
            <a:ext cx="5106960" cy="71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3214800"/>
            <a:ext cx="5106960" cy="71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48000" y="2349360"/>
            <a:ext cx="5106960" cy="71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48000" y="4941720"/>
            <a:ext cx="5106960" cy="71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368440" y="1989000"/>
            <a:ext cx="403200" cy="44928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92480" y="4724280"/>
            <a:ext cx="407880" cy="43344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49680" y="198900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49680" y="5157720"/>
            <a:ext cx="59832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673360" y="281952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49680" y="3581280"/>
            <a:ext cx="60948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73360" y="4365720"/>
            <a:ext cx="685800" cy="0"/>
          </a:xfrm>
          <a:prstGeom prst="line">
            <a:avLst/>
          </a:prstGeom>
          <a:ln cap="rnd" w="1260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2133720"/>
            <a:ext cx="2673360" cy="26715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bbe4e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6040" y="2306520"/>
            <a:ext cx="2319480" cy="2322720"/>
          </a:xfrm>
          <a:prstGeom prst="ellipse">
            <a:avLst/>
          </a:prstGeom>
          <a:gradFill rotWithShape="0">
            <a:gsLst>
              <a:gs pos="0">
                <a:srgbClr val="31662a"/>
              </a:gs>
              <a:gs pos="50000">
                <a:srgbClr val="5bbe4e"/>
              </a:gs>
              <a:gs pos="100000">
                <a:srgbClr val="31662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7200" y="2319480"/>
            <a:ext cx="2319480" cy="2320920"/>
          </a:xfrm>
          <a:prstGeom prst="ellipse">
            <a:avLst/>
          </a:prstGeom>
          <a:gradFill rotWithShape="0">
            <a:gsLst>
              <a:gs pos="0">
                <a:srgbClr val="5bbe4e">
                  <a:alpha val="0"/>
                </a:srgbClr>
              </a:gs>
              <a:gs pos="100000">
                <a:srgbClr val="39783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0520" y="2424240"/>
            <a:ext cx="2090880" cy="20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2457360"/>
            <a:ext cx="2025360" cy="20271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9200" y="2468520"/>
            <a:ext cx="1978200" cy="197820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1520" y="2487600"/>
            <a:ext cx="1879560" cy="18478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48000" y="1486080"/>
            <a:ext cx="5106960" cy="71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cbcbc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63760" y="184464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a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2711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2922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3467160"/>
            <a:ext cx="228600" cy="228600"/>
          </a:xfrm>
          <a:prstGeom prst="ellipse">
            <a:avLst/>
          </a:prstGeom>
          <a:gradFill rotWithShape="0">
            <a:gsLst>
              <a:gs pos="0">
                <a:srgbClr val="8f038f"/>
              </a:gs>
              <a:gs pos="100000">
                <a:srgbClr val="5e01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63760" y="4280040"/>
            <a:ext cx="228600" cy="22860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a491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5145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2922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36080" y="15566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一、教材分析和学情分析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29480" y="476280"/>
            <a:ext cx="492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《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昼夜交替现象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》</a:t>
            </a: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（教科版五下第四单元）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4360" y="2852640"/>
            <a:ext cx="12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黑体"/>
                <a:ea typeface="黑体"/>
              </a:rPr>
              <a:t>说课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黑体"/>
                <a:ea typeface="黑体"/>
              </a:rPr>
              <a:t>提纲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49400" y="2420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二、教学目标和重难点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20760" y="32839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三、教学准备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35160" y="4220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四、教学流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20760" y="50839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五、板书设计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456560" y="2595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四、教学流程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526400" y="105264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、模拟实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5280" y="259524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01020"/>
                </a:solidFill>
                <a:latin typeface="Arial"/>
                <a:ea typeface="宋体"/>
              </a:rPr>
              <a:t>模拟实验的作用在于检验假说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01020"/>
                </a:solidFill>
                <a:latin typeface="Arial"/>
                <a:ea typeface="宋体"/>
              </a:rPr>
              <a:t>要求学生了解如何做模拟实验是必要的。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即首先要找出模拟对象的特征，然后用具有相似特征的材料或物体来代替所要模拟的对象，通过对材料或物体的研究来形成认识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01020"/>
                </a:solidFill>
                <a:latin typeface="Arial"/>
                <a:ea typeface="宋体"/>
              </a:rPr>
              <a:t>让学生认识到实验材料与模拟对象的相似性也是重要的。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因此教师在教学中要问学生，我们模拟的对象是什么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?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它们有什么地方相似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01020"/>
                </a:solidFill>
                <a:latin typeface="Arial"/>
                <a:ea typeface="宋体"/>
              </a:rPr>
              <a:t>让学生选取几种假说来做模拟实验，在实验中要提示学生</a:t>
            </a:r>
            <a:r>
              <a:rPr b="0" lang="en-US" sz="2400" spc="-1" strike="noStrike">
                <a:solidFill>
                  <a:srgbClr val="f01020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f01020"/>
                </a:solidFill>
                <a:latin typeface="Arial"/>
                <a:ea typeface="宋体"/>
              </a:rPr>
              <a:t>观察到什么，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才能说明乒乓球上发生了“昼夜交替”现象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?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发生“昼夜交替”现象时，“太阳”和“地球”在如何运动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?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56560" y="2595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四、教学流程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526400" y="119700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、模拟实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39640" y="2363760"/>
            <a:ext cx="820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师：那这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种猜测到底能产生昼夜交替现象吗？我们可以用什么方法来证明？ </a:t>
            </a:r>
            <a:r>
              <a:rPr b="0" lang="zh-CN" sz="2000" spc="-1" strike="noStrike">
                <a:solidFill>
                  <a:srgbClr val="f01020"/>
                </a:solidFill>
                <a:latin typeface="Arial"/>
                <a:ea typeface="宋体"/>
              </a:rPr>
              <a:t>（模拟实验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师：我们可以用什么代替阳光？用什么材料代替地球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01020"/>
                </a:solidFill>
                <a:latin typeface="Arial"/>
                <a:ea typeface="宋体"/>
              </a:rPr>
              <a:t>（用手电筒代表阳光、地球仪代表地球。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师：我们的光线该如何照射呢？能从上或从下照射吗？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01020"/>
                </a:solidFill>
                <a:latin typeface="Arial"/>
                <a:ea typeface="宋体"/>
              </a:rPr>
              <a:t>（光线最要保持水平，从侧面照射到地球仪上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师：为了方便研究，陈老师在每个地球仪上都贴上星星，以这一点作为我们观测点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师：你觉得，我们观测到什么？说明出现 “昼”，观察到什么说明出现“夜”呢？观察到什么，说明出现昼夜交替？ </a:t>
            </a:r>
            <a:r>
              <a:rPr b="0" lang="zh-CN" sz="2000" spc="-1" strike="noStrike">
                <a:solidFill>
                  <a:srgbClr val="f01020"/>
                </a:solidFill>
                <a:latin typeface="Arial"/>
                <a:ea typeface="宋体"/>
              </a:rPr>
              <a:t>（明暗的变化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地球上被太阳照亮部分是？ </a:t>
            </a:r>
            <a:r>
              <a:rPr b="0" lang="zh-CN" sz="2000" spc="-1" strike="noStrike">
                <a:solidFill>
                  <a:srgbClr val="f01020"/>
                </a:solidFill>
                <a:latin typeface="Arial"/>
                <a:ea typeface="宋体"/>
              </a:rPr>
              <a:t>（昼）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 没被太阳照亮的是？ </a:t>
            </a:r>
            <a:r>
              <a:rPr b="0" lang="zh-CN" sz="2000" spc="-1" strike="noStrike">
                <a:solidFill>
                  <a:srgbClr val="f01020"/>
                </a:solidFill>
                <a:latin typeface="Arial"/>
                <a:ea typeface="宋体"/>
              </a:rPr>
              <a:t>（夜）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rcRect l="17537" t="7030" r="16872" b="11369"/>
          <a:stretch/>
        </p:blipFill>
        <p:spPr>
          <a:xfrm>
            <a:off x="4788000" y="1700280"/>
            <a:ext cx="3241440" cy="3844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80808"/>
                </a:solidFill>
                <a:latin typeface="Arial"/>
                <a:ea typeface="宋体"/>
              </a:rPr>
              <a:t>我们需要的材料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>
            <a:lum contrast="12000"/>
          </a:blip>
          <a:srcRect l="12024" t="0" r="27828" b="0"/>
          <a:stretch/>
        </p:blipFill>
        <p:spPr>
          <a:xfrm>
            <a:off x="990720" y="1600200"/>
            <a:ext cx="2514600" cy="396252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1447920" y="55627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手电筒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5638680" y="556272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地球仪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3"/>
          <a:srcRect l="48834" t="12375" r="25244" b="54298"/>
          <a:stretch/>
        </p:blipFill>
        <p:spPr>
          <a:xfrm>
            <a:off x="2666880" y="1447920"/>
            <a:ext cx="1544760" cy="14047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4"/>
          <a:srcRect l="41407" t="49046" r="36333" b="26422"/>
          <a:stretch/>
        </p:blipFill>
        <p:spPr>
          <a:xfrm>
            <a:off x="7164360" y="1700280"/>
            <a:ext cx="15843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rcRect l="61541" t="0" r="0" b="0"/>
          <a:stretch/>
        </p:blipFill>
        <p:spPr>
          <a:xfrm>
            <a:off x="179280" y="2133720"/>
            <a:ext cx="1994040" cy="31129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2124000" y="1249200"/>
            <a:ext cx="5972400" cy="285984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1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、调节手电筒跟地球仪的距离，差不多正好能照亮半个地球仪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、确定一个点来观察昼夜交替现象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、有顺序的选择你们要验证的情况，讨论方法后再进行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、当几个同学在做时，其他同学一起来观察能否出现昼夜交替的现象，并把结果记录在记录表的第二列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56280" y="47520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实验提示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4771800" y="2906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771800" y="2906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771800" y="2906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rcRect l="20001" t="37169" r="23480" b="0"/>
          <a:stretch/>
        </p:blipFill>
        <p:spPr>
          <a:xfrm>
            <a:off x="1846440" y="2973240"/>
            <a:ext cx="4952880" cy="32371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474840" y="2022480"/>
            <a:ext cx="1676160" cy="1676520"/>
          </a:xfrm>
          <a:prstGeom prst="wedgeRoundRectCallout">
            <a:avLst>
              <a:gd name="adj1" fmla="val 42236"/>
              <a:gd name="adj2" fmla="val 74240"/>
              <a:gd name="adj3" fmla="val 16667"/>
            </a:avLst>
          </a:prstGeom>
          <a:solidFill>
            <a:srgbClr val="ffff66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50800" y="2065320"/>
            <a:ext cx="212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黑体"/>
              </a:rPr>
              <a:t>实验员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黑体"/>
              </a:rPr>
              <a:t>科学实验  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黑体"/>
              </a:rPr>
              <a:t> 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黑体"/>
              </a:rPr>
              <a:t>一丝不苟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2600" y="5983200"/>
            <a:ext cx="3511440" cy="470160"/>
          </a:xfrm>
          <a:prstGeom prst="wedgeRoundRectCallout">
            <a:avLst>
              <a:gd name="adj1" fmla="val -28842"/>
              <a:gd name="adj2" fmla="val -170944"/>
              <a:gd name="adj3" fmla="val 16667"/>
            </a:avLst>
          </a:prstGeom>
          <a:gradFill rotWithShape="0">
            <a:gsLst>
              <a:gs pos="0">
                <a:srgbClr val="4ab1e4"/>
              </a:gs>
              <a:gs pos="50000">
                <a:srgbClr val="225169"/>
              </a:gs>
              <a:gs pos="100000">
                <a:srgbClr val="4ab1e4"/>
              </a:gs>
            </a:gsLst>
            <a:lin ang="54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98920" y="6045120"/>
            <a:ext cx="417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黑体"/>
              </a:rPr>
              <a:t>记录员：尊重事实，如实记录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446640" y="1413000"/>
            <a:ext cx="1676160" cy="1295280"/>
          </a:xfrm>
          <a:prstGeom prst="wedgeRoundRectCallout">
            <a:avLst>
              <a:gd name="adj1" fmla="val -12407"/>
              <a:gd name="adj2" fmla="val 78310"/>
              <a:gd name="adj3" fmla="val 16667"/>
            </a:avLst>
          </a:prstGeom>
          <a:gradFill rotWithShape="0">
            <a:gsLst>
              <a:gs pos="0">
                <a:srgbClr val="ff00ff">
                  <a:alpha val="55294"/>
                </a:srgbClr>
              </a:gs>
              <a:gs pos="50000">
                <a:srgbClr val="750075"/>
              </a:gs>
              <a:gs pos="100000">
                <a:srgbClr val="ff00ff">
                  <a:alpha val="55294"/>
                </a:srgbClr>
              </a:gs>
            </a:gsLst>
            <a:lin ang="8100000"/>
          </a:gra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675240" y="1413000"/>
            <a:ext cx="2266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黑体"/>
              </a:rPr>
              <a:t>材料员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黑体"/>
              </a:rPr>
              <a:t>管理器材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黑体"/>
              </a:rPr>
              <a:t>整理器材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418440" y="2244600"/>
            <a:ext cx="1609560" cy="1249560"/>
          </a:xfrm>
          <a:prstGeom prst="wedgeRoundRectCallout">
            <a:avLst>
              <a:gd name="adj1" fmla="val -58972"/>
              <a:gd name="adj2" fmla="val 85958"/>
              <a:gd name="adj3" fmla="val 16667"/>
            </a:avLst>
          </a:prstGeom>
          <a:blipFill rotWithShape="0">
            <a:blip r:embed="rId2">
              <a:alphaModFix amt="70000"/>
            </a:blip>
            <a:srcRect/>
            <a:stretch/>
          </a:blip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83320" y="2205000"/>
            <a:ext cx="1660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黑体"/>
                <a:ea typeface="黑体"/>
              </a:rPr>
              <a:t>小组长：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黑体"/>
                <a:ea typeface="黑体"/>
              </a:rPr>
              <a:t>监督工作 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黑体"/>
                <a:ea typeface="黑体"/>
              </a:rPr>
              <a:t>汇报工作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15228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00"/>
                </a:solidFill>
                <a:latin typeface="Arial"/>
                <a:ea typeface="隶书"/>
              </a:rPr>
              <a:t>学会分工合作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6013440" y="1452600"/>
          <a:ext cx="1878120" cy="8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3440" y="1452600"/>
                    <a:ext cx="18781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012000" y="2652840"/>
          <a:ext cx="1828800" cy="8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2652840"/>
                    <a:ext cx="182880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6013440" y="3516480"/>
          <a:ext cx="2087640" cy="88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3440" y="3516480"/>
                    <a:ext cx="20876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013440" y="4500720"/>
          <a:ext cx="2087640" cy="88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3440" y="4500720"/>
                    <a:ext cx="20876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"/>
          <p:cNvGraphicFramePr/>
          <p:nvPr/>
        </p:nvGraphicFramePr>
        <p:xfrm>
          <a:off x="6013440" y="5603760"/>
          <a:ext cx="2087640" cy="88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3440" y="5603760"/>
                    <a:ext cx="20876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6016680" y="1419120"/>
          <a:ext cx="1878120" cy="88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6680" y="1419120"/>
                    <a:ext cx="18781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6016680" y="3548160"/>
          <a:ext cx="2087640" cy="887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6680" y="3548160"/>
                    <a:ext cx="20876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6019920" y="1436760"/>
          <a:ext cx="1877760" cy="887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19920" y="1436760"/>
                    <a:ext cx="187776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6016680" y="4519440"/>
          <a:ext cx="2087640" cy="887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16680" y="4519440"/>
                    <a:ext cx="2087640" cy="8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"/>
          <p:cNvGraphicFramePr/>
          <p:nvPr/>
        </p:nvGraphicFramePr>
        <p:xfrm>
          <a:off x="6016680" y="5627520"/>
          <a:ext cx="2087640" cy="887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16680" y="5627520"/>
                    <a:ext cx="2087640" cy="8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6012000" y="3538440"/>
          <a:ext cx="2087280" cy="887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12000" y="3538440"/>
                    <a:ext cx="20872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6016680" y="4529160"/>
          <a:ext cx="2087640" cy="887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16680" y="4529160"/>
                    <a:ext cx="20876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"/>
          <p:cNvGraphicFramePr/>
          <p:nvPr/>
        </p:nvGraphicFramePr>
        <p:xfrm>
          <a:off x="6016680" y="5637240"/>
          <a:ext cx="2087640" cy="887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6680" y="5637240"/>
                    <a:ext cx="20876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6013440" y="3535200"/>
          <a:ext cx="2087640" cy="8874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013440" y="3535200"/>
                    <a:ext cx="20876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6008760" y="4521240"/>
          <a:ext cx="2087640" cy="8874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008760" y="4521240"/>
                    <a:ext cx="20876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6008760" y="5629320"/>
          <a:ext cx="2087640" cy="8874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008760" y="5629320"/>
                    <a:ext cx="20876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6004080" y="2687760"/>
          <a:ext cx="1828800" cy="8874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004080" y="2687760"/>
                    <a:ext cx="182880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>
          <a:off x="6013440" y="1468440"/>
          <a:ext cx="1878120" cy="8874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013440" y="1468440"/>
                    <a:ext cx="18781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"/>
          <p:cNvGraphicFramePr/>
          <p:nvPr/>
        </p:nvGraphicFramePr>
        <p:xfrm>
          <a:off x="6006960" y="2602080"/>
          <a:ext cx="1828800" cy="88740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006960" y="2602080"/>
                    <a:ext cx="182880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"/>
          <p:cNvGraphicFramePr/>
          <p:nvPr/>
        </p:nvGraphicFramePr>
        <p:xfrm>
          <a:off x="6018120" y="1380960"/>
          <a:ext cx="1878120" cy="8874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018120" y="1380960"/>
                    <a:ext cx="18781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6012000" y="4535640"/>
          <a:ext cx="2087280" cy="8874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012000" y="4535640"/>
                    <a:ext cx="20872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5899320" y="2463840"/>
          <a:ext cx="2347920" cy="107460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5899320" y="2463840"/>
                    <a:ext cx="234792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6013440" y="1324080"/>
          <a:ext cx="2087640" cy="9856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013440" y="1324080"/>
                    <a:ext cx="208764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"/>
          <p:cNvSpPr/>
          <p:nvPr/>
        </p:nvSpPr>
        <p:spPr>
          <a:xfrm>
            <a:off x="1979640" y="259560"/>
            <a:ext cx="54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科学记录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第（     ）小组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314280"/>
            <a:ext cx="262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314280"/>
            <a:ext cx="262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14280"/>
            <a:ext cx="262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0" y="314280"/>
            <a:ext cx="262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314280"/>
            <a:ext cx="262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108000" y="765000"/>
          <a:ext cx="8856720" cy="5524560"/>
        </p:xfrm>
        <a:graphic>
          <a:graphicData uri="http://schemas.openxmlformats.org/drawingml/2006/table">
            <a:tbl>
              <a:tblPr/>
              <a:tblGrid>
                <a:gridCol w="3441240"/>
                <a:gridCol w="2066040"/>
                <a:gridCol w="334944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我们的猜测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能否出现昼夜交替变化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画出示意图（自转用小圈，公转用大圈）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地球不动，太阳绕着地球转。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能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不能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太阳不动，地球围着太阳 。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能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不能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地球自转不绕日转。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能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不能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地球围着太阳转，同时自转。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能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不能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能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仿宋_GB2312"/>
                        </a:rPr>
                        <a:t>不能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3" name=""/>
          <p:cNvSpPr/>
          <p:nvPr/>
        </p:nvSpPr>
        <p:spPr>
          <a:xfrm>
            <a:off x="0" y="654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456560" y="2595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四、教学流程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526400" y="105264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、汇报交流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9640" y="1990440"/>
            <a:ext cx="82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(1)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向大家汇报小组的研究结果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(2)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教师记录下学生的解释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(3)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教师和学生一起分析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01020"/>
                </a:solidFill>
                <a:latin typeface="Arial"/>
                <a:ea typeface="宋体"/>
              </a:rPr>
              <a:t>这些昼夜交替现象的解释成立吗</a:t>
            </a:r>
            <a:r>
              <a:rPr b="0" lang="en-US" sz="2800" spc="-1" strike="noStrike">
                <a:solidFill>
                  <a:srgbClr val="f0102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01020"/>
                </a:solidFill>
                <a:latin typeface="Arial"/>
                <a:ea typeface="宋体"/>
              </a:rPr>
              <a:t>这些解释有什么相同的特点吗</a:t>
            </a:r>
            <a:r>
              <a:rPr b="0" lang="en-US" sz="2800" spc="-1" strike="noStrike">
                <a:solidFill>
                  <a:srgbClr val="f0102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01020"/>
                </a:solidFill>
                <a:latin typeface="Arial"/>
                <a:ea typeface="宋体"/>
              </a:rPr>
              <a:t>在没有新的证据前，前面哪些有关昼夜交替现象的解释暂时是正确的</a:t>
            </a:r>
            <a:r>
              <a:rPr b="0" lang="en-US" sz="2800" spc="-1" strike="noStrike">
                <a:solidFill>
                  <a:srgbClr val="f0102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6044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456560" y="2595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四、教学流程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526400" y="105264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、总结拓展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9640" y="2347920"/>
            <a:ext cx="813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教师小结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: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通过大家的验证，认为好几种情况都可能使地球发生昼夜交替的现象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那么，地球产生昼夜交替的真正原因是什么呢</a:t>
            </a:r>
            <a:r>
              <a:rPr b="0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?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我们将在下节课继续研究。也请同学们回去查阅这方面的资料，看看科学家是怎样研究得出结论的，并把查到的资料带到课堂上来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600920" y="332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五、板书设计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905560" y="981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宋体"/>
              </a:rPr>
              <a:t>昼夜交替现象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826920" y="2060640"/>
            <a:ext cx="528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8080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地球不动，太阳围着地球转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太阳不动，地球围着太阳转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地球自转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4.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地球围着太阳转，同时地球自转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rcRect l="29799" t="18958" r="16264" b="37736"/>
          <a:stretch/>
        </p:blipFill>
        <p:spPr>
          <a:xfrm>
            <a:off x="5796000" y="1557360"/>
            <a:ext cx="1655640" cy="107640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2"/>
          <a:srcRect l="13536" t="14394" r="17643" b="25256"/>
          <a:stretch/>
        </p:blipFill>
        <p:spPr>
          <a:xfrm>
            <a:off x="5867280" y="2708280"/>
            <a:ext cx="1513080" cy="107784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3"/>
          <a:srcRect l="26473" t="4642" r="26295" b="28763"/>
          <a:stretch/>
        </p:blipFill>
        <p:spPr>
          <a:xfrm>
            <a:off x="6012000" y="3789360"/>
            <a:ext cx="1166760" cy="12952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4"/>
          <a:srcRect l="23029" t="13211" r="20057" b="27910"/>
          <a:stretch/>
        </p:blipFill>
        <p:spPr>
          <a:xfrm>
            <a:off x="5867280" y="5300640"/>
            <a:ext cx="136872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684360" y="1773360"/>
            <a:ext cx="4495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4ab1e4"/>
                </a:solidFill>
                <a:effectLst>
                  <a:outerShdw dist="53966" dir="2700000" blurRad="0" rotWithShape="0">
                    <a:srgbClr val="080808">
                      <a:alpha val="50000"/>
                    </a:srgbClr>
                  </a:outerShdw>
                </a:effectLst>
                <a:latin typeface="Arial"/>
              </a:rPr>
              <a:t>谢谢大家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4ab1e4"/>
              </a:solidFill>
              <a:effectLst>
                <a:outerShdw dist="53966" dir="2700000" blurRad="0" rotWithShape="0">
                  <a:srgbClr val="080808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47644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一、教材分析和学情分析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1624680"/>
            <a:ext cx="849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昼夜交替现象的成因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1020"/>
                </a:solidFill>
                <a:latin typeface="Arial"/>
                <a:ea typeface="宋体"/>
              </a:rPr>
              <a:t>太阳光的照射，地球是球体，球体不断自转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关于昼夜交替知识，许多成人认为太简单了，不用学也知道。事实上，确实有许多学生通过阅读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十万个为什么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或者电视媒体等渠道看到过相关的知识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那么学生是否真正的理解呢？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让我们来看一个有关此内容的课前调查统计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47644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一、教材分析和学情分析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26920" y="3895560"/>
            <a:ext cx="2295360" cy="863640"/>
            <a:chOff x="826920" y="3895560"/>
            <a:chExt cx="2295360" cy="863640"/>
          </a:xfrm>
        </p:grpSpPr>
        <p:sp>
          <p:nvSpPr>
            <p:cNvPr id="253" name=""/>
            <p:cNvSpPr/>
            <p:nvPr/>
          </p:nvSpPr>
          <p:spPr>
            <a:xfrm>
              <a:off x="826920" y="4550040"/>
              <a:ext cx="2291400" cy="2030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0880" y="3895560"/>
              <a:ext cx="2291400" cy="863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25169"/>
                </a:gs>
                <a:gs pos="50000">
                  <a:srgbClr val="4ab1e4">
                    <a:alpha val="50196"/>
                  </a:srgbClr>
                </a:gs>
                <a:gs pos="100000">
                  <a:srgbClr val="2251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826920" y="2960640"/>
            <a:ext cx="2295360" cy="863640"/>
            <a:chOff x="826920" y="2960640"/>
            <a:chExt cx="2295360" cy="863640"/>
          </a:xfrm>
        </p:grpSpPr>
        <p:sp>
          <p:nvSpPr>
            <p:cNvPr id="256" name=""/>
            <p:cNvSpPr/>
            <p:nvPr/>
          </p:nvSpPr>
          <p:spPr>
            <a:xfrm>
              <a:off x="826920" y="3615120"/>
              <a:ext cx="2291400" cy="2030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880" y="2960640"/>
              <a:ext cx="2291400" cy="863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95723"/>
                </a:gs>
                <a:gs pos="50000">
                  <a:srgbClr val="5bbe4e">
                    <a:alpha val="50196"/>
                  </a:srgbClr>
                </a:gs>
                <a:gs pos="100000">
                  <a:srgbClr val="29572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826920" y="1952640"/>
            <a:ext cx="2295360" cy="934920"/>
            <a:chOff x="826920" y="1952640"/>
            <a:chExt cx="2295360" cy="934920"/>
          </a:xfrm>
        </p:grpSpPr>
        <p:sp>
          <p:nvSpPr>
            <p:cNvPr id="259" name=""/>
            <p:cNvSpPr/>
            <p:nvPr/>
          </p:nvSpPr>
          <p:spPr>
            <a:xfrm>
              <a:off x="826920" y="2661120"/>
              <a:ext cx="2291400" cy="21996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3e9d4"/>
                </a:gs>
                <a:gs pos="100000">
                  <a:srgbClr val="c1cf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0880" y="1952640"/>
              <a:ext cx="2291400" cy="934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10141"/>
                </a:gs>
                <a:gs pos="50000">
                  <a:srgbClr val="8f038f">
                    <a:alpha val="50196"/>
                  </a:srgbClr>
                </a:gs>
                <a:gs pos="100000">
                  <a:srgbClr val="4101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3138480" y="2095560"/>
            <a:ext cx="4722840" cy="6490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8f038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33480" y="230976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地球自转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08360" y="231156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地球自转的占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28%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00000" y="3319560"/>
            <a:ext cx="21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地球自转、公转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00000" y="4255920"/>
            <a:ext cx="21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太阳绕地运动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3032280"/>
            <a:ext cx="4649760" cy="6476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5bbe4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08360" y="317664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地球自转的同时绕太阳公转的占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25%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32000" y="4040280"/>
            <a:ext cx="4649760" cy="6490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4ab1e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08360" y="4111560"/>
            <a:ext cx="35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太阳绕地球转的占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13%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38480" y="224964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32000" y="317664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32000" y="4111560"/>
            <a:ext cx="533520" cy="381240"/>
          </a:xfrm>
          <a:prstGeom prst="rightArrow">
            <a:avLst>
              <a:gd name="adj1" fmla="val 50000"/>
              <a:gd name="adj2" fmla="val 58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826920" y="4832280"/>
            <a:ext cx="2295360" cy="863640"/>
            <a:chOff x="826920" y="4832280"/>
            <a:chExt cx="2295360" cy="863640"/>
          </a:xfrm>
        </p:grpSpPr>
        <p:sp>
          <p:nvSpPr>
            <p:cNvPr id="274" name=""/>
            <p:cNvSpPr/>
            <p:nvPr/>
          </p:nvSpPr>
          <p:spPr>
            <a:xfrm>
              <a:off x="826920" y="5486760"/>
              <a:ext cx="2291400" cy="203040"/>
            </a:xfrm>
            <a:prstGeom prst="ellipse">
              <a:avLst/>
            </a:prstGeom>
            <a:gradFill rotWithShape="0">
              <a:gsLst>
                <a:gs pos="0">
                  <a:srgbClr val="2f5e75"/>
                </a:gs>
                <a:gs pos="5000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30880" y="4832280"/>
              <a:ext cx="2291400" cy="8636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5e75"/>
                </a:gs>
                <a:gs pos="50000">
                  <a:srgbClr val="66ccff">
                    <a:alpha val="50196"/>
                  </a:srgbClr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132000" y="4976640"/>
            <a:ext cx="4649760" cy="6494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60720" y="504828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08360" y="5048280"/>
            <a:ext cx="35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认为和月亮有关的占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8%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5192640"/>
            <a:ext cx="21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月亮绕地运动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08360" y="587700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其他原因或什么都不知道占</a:t>
            </a: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26%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613600" y="105264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1020"/>
                </a:solidFill>
                <a:latin typeface="Arial"/>
                <a:ea typeface="宋体"/>
              </a:rPr>
              <a:t>学生课前调查：昼夜交替现象和什么有关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47644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一、教材分析和学情分析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" y="162864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这说明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学生原先对昼夜交替现象的了解，是通过书籍、电视等渠道获取的，知识是不稳固的，或者说是书面的形式，是以零碎的形式存在的，不能和他原有的知识进行有序地建构，所以还不能成为学生的知识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基于此，我认为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1020"/>
                </a:solidFill>
                <a:latin typeface="Arial"/>
                <a:ea typeface="宋体"/>
              </a:rPr>
              <a:t>大部分学生对昼夜交替现象的了解是困惑不解的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47644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一、教材分析和学情分析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2738520" cy="41036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3132000" y="981000"/>
            <a:ext cx="2779920" cy="40323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6227640" y="1052640"/>
            <a:ext cx="2665440" cy="3889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08000" y="5153040"/>
            <a:ext cx="8748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01020"/>
                </a:solidFill>
                <a:latin typeface="Arial"/>
                <a:ea typeface="宋体"/>
              </a:rPr>
              <a:t>三个有层次的活动</a:t>
            </a:r>
            <a:r>
              <a:rPr b="1" lang="en-US" sz="2000" spc="-1" strike="noStrike">
                <a:solidFill>
                  <a:srgbClr val="f01020"/>
                </a:solidFill>
                <a:latin typeface="Arial"/>
                <a:ea typeface="宋体"/>
              </a:rPr>
              <a:t>: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、学生自由发表有关昼夜交替现象的假说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、做有关昼夜现象的模拟实验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80808"/>
                </a:solidFill>
                <a:latin typeface="Arial"/>
                <a:ea typeface="宋体"/>
              </a:rPr>
              <a:t>、根据模拟现象提出有根据的多种可能的解释，并对这些解释进行分析。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1773360"/>
            <a:ext cx="1187280" cy="431640"/>
          </a:xfrm>
          <a:prstGeom prst="ellipse">
            <a:avLst/>
          </a:prstGeom>
          <a:noFill/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87640" y="907920"/>
            <a:ext cx="1655640" cy="505080"/>
          </a:xfrm>
          <a:prstGeom prst="ellipse">
            <a:avLst/>
          </a:prstGeom>
          <a:noFill/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12000" y="907920"/>
            <a:ext cx="1619280" cy="505080"/>
          </a:xfrm>
          <a:prstGeom prst="ellipse">
            <a:avLst/>
          </a:prstGeom>
          <a:noFill/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47644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一、教材分析和学情分析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2549160"/>
            <a:ext cx="820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教材列举了产生昼夜交替现象有许多种可能，其目的就是引导学生发挥最大的想象力，提出地球产生昼夜现象的多种假说，并通过模拟实验去验证，重演一次人类认识昼夜交替现象的过程。通过这样一个过程，虽然最后还是没有找到正确的解释，但学生在这个过程中明白了科学需要通过亲身经历科学探究，从而产生深刻的科学价值观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特别要注意，本课不要求学生立刻掌握形成昼夜交替的原因，而是</a:t>
            </a:r>
            <a:r>
              <a:rPr b="1" lang="zh-CN" sz="2800" spc="-1" strike="noStrike">
                <a:solidFill>
                  <a:srgbClr val="f01020"/>
                </a:solidFill>
                <a:latin typeface="Arial"/>
                <a:ea typeface="宋体"/>
              </a:rPr>
              <a:t>展示他们对昼夜现象的看法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47644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一、教材分析和学情分析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52040" y="2350080"/>
            <a:ext cx="7996680" cy="3506760"/>
            <a:chOff x="752040" y="2350080"/>
            <a:chExt cx="7996680" cy="3506760"/>
          </a:xfrm>
        </p:grpSpPr>
        <p:sp>
          <p:nvSpPr>
            <p:cNvPr id="296" name=""/>
            <p:cNvSpPr/>
            <p:nvPr/>
          </p:nvSpPr>
          <p:spPr>
            <a:xfrm>
              <a:off x="752040" y="3789360"/>
              <a:ext cx="183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《</a:t>
              </a:r>
              <a:r>
                <a:rPr b="1" lang="zh-CN" sz="2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地球的运动</a:t>
              </a:r>
              <a:r>
                <a:rPr b="1" lang="en-US" sz="2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》</a:t>
              </a:r>
              <a:r>
                <a:rPr b="1" lang="zh-CN" sz="2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单元</a:t>
              </a:r>
              <a:endParaRPr b="0" lang="en-US" sz="24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64000" y="2350080"/>
              <a:ext cx="518472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昼夜交替现象</a:t>
              </a: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人类认识地球及其运动的历史</a:t>
              </a: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3</a:t>
              </a:r>
              <a:r>
                <a:rPr b="1" lang="zh-CN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证明地球在自转</a:t>
              </a: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4</a:t>
              </a:r>
              <a:r>
                <a:rPr b="1" lang="zh-CN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谁先迎来黎明</a:t>
              </a: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5</a:t>
              </a:r>
              <a:r>
                <a:rPr b="1" lang="zh-CN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北极星“不动”的秘密</a:t>
              </a: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6</a:t>
              </a:r>
              <a:r>
                <a:rPr b="1" lang="zh-CN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地球在公转吗</a:t>
              </a: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7</a:t>
              </a:r>
              <a:r>
                <a:rPr b="1" lang="zh-CN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为什么一年中有四季</a:t>
              </a: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8</a:t>
              </a:r>
              <a:r>
                <a:rPr b="1" lang="zh-CN" sz="2800" spc="-1" strike="noStrike">
                  <a:solidFill>
                    <a:srgbClr val="080808"/>
                  </a:solidFill>
                  <a:latin typeface="Arial"/>
                  <a:ea typeface="宋体"/>
                </a:rPr>
                <a:t>极昼极夜的解释</a:t>
              </a: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76360" y="2492280"/>
              <a:ext cx="358920" cy="3170160"/>
            </a:xfrm>
            <a:custGeom>
              <a:avLst/>
              <a:gdLst>
                <a:gd name="textAreaLeft" fmla="*/ 229320 w 358920"/>
                <a:gd name="textAreaRight" fmla="*/ 359280 w 358920"/>
                <a:gd name="textAreaTop" fmla="*/ 82440 h 3170160"/>
                <a:gd name="textAreaBottom" fmla="*/ 3087720 h 317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884600" y="1340640"/>
            <a:ext cx="51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昼夜交替现象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：五下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地球的运动</a:t>
            </a:r>
            <a:r>
              <a:rPr b="1" lang="en-US" sz="2800" spc="-1" strike="noStrike">
                <a:solidFill>
                  <a:srgbClr val="080808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单元起始课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272680" y="2595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黑体"/>
              </a:rPr>
              <a:t>二、教学目标和重难点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5280" y="123048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科学概念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昼夜交替现象有多种可能的解释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昼夜现象与地球和太阳的相对圆周运动有关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过程与方法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提出地球产生昼夜现象的多种假说，并且进行验证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做好模拟实验和运用实验收集的证据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根据实验的情况修正自己的解释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情感态度价值观：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认识到积极参与讨论，并发表有根据的解释是重要的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认识到同一现象，可能有多种不同的解释，需要用更多的证据来加以判断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培养主动探究、积极合作的态度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673000" y="566100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教学重难点：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  <a:ea typeface="宋体"/>
              </a:rPr>
              <a:t>能用模拟实验验证每一种假设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1:47:29Z</dcterms:created>
  <dc:creator>雨林木风</dc:creator>
  <dc:description/>
  <dc:language>en-US</dc:language>
  <cp:lastModifiedBy>hp</cp:lastModifiedBy>
  <dcterms:modified xsi:type="dcterms:W3CDTF">2010-07-17T03:59:39Z</dcterms:modified>
  <cp:revision>54</cp:revision>
  <dc:subject/>
  <dc:title>ThemeGallery PowerTemplate</dc:title>
</cp:coreProperties>
</file>